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4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1.wmf" ContentType="image/x-wmf"/>
  <Override PartName="/ppt/media/image10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17.wmf" ContentType="image/x-wmf"/>
  <Override PartName="/ppt/media/image16.png" ContentType="image/png"/>
  <Override PartName="/ppt/media/image14.wmf" ContentType="image/x-wmf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8A16-B022-4168-9744-FED66255E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B580-5F75-42AC-9762-C17D186DA8B9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50% densify thickness decrease by factor of 2 then density is increase by factor of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DB96-CD6B-4BA4-95F6-18E75320284D}" type="slidenum"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(4840-4440)/4440=10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440-4440)/4440= 23% increase in MOE for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5440-4840)/4840=12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(6549-4175)/4175 =56%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 curve (V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(3240-3140)/3140=3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340-3140)/3140= 6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340-3240)/3240=3%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tom curve (contr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(1940-1740)/1740=11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40-1740)/1740= 17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40-1940)/1740=5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391-2335)/2335=45%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(3900-3650)/3650=6.85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00-3650)/3650= 17.81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300-3900)/3900= 10.26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 (6800-6200)/6200=9.68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800-6200)/6200= 28.8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800-6800)/6800= 14.7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8000-3700)/3700=116% Increased in MOE compare to no VTC at 1/Dt=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4400-2600)/2600=69.23% Increased in MOE compare to no VTC at 1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5200-2900)/2900=79.3% Increased in MOE compare to no VTC at 25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(6400-3300)/3300=94.94% Increased in MOE compare to no VTC at 25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increased in MOE from 1% to 25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% increased in MOE form 1% to 100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increased in MOE from 25% to 100% co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%, 80%, 95% and 116% increased in MOE compare to no VTC at 1%, 25%, 100% and at perfect inte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i: Fraction of strand material =L/(L+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(2800-2100)/2100 =33.3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100-2100)/2100 = 47.6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140-1940)/1940 = 10.3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sive  (6600-5200)/5200=26.92% increase in MOE from 1% to 2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600-5200)/5200= 46.15% increase in MOE form 1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7600-6600)/6600= 15% increase in MOE from 25% to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1857-5855)/5855=100.2% Increased in MOE compare to no V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D0AA-0C20-446F-A510-E5C2C5FED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Poplar : clon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pulus delt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pulus trichocar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envisioned as an energy crop during petroleum crisis of the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 provided much of the early research on genetics and silicultur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ized by the pulp and paper industry in the early to mid-1980s as opportunity to moderate the fluctuations in fiber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E6B-9C75-4084-AADC-7117280F6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TC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sification using dynamic heat, steam, and mechanical com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brid Poplar : clone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pulus deltoid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opulus trichocar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envisioned as an energy crop during petroleum crisis of the 197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 provided much of the early research on genetics and silicultural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ercialized by the pulp and paper industry in the early to mid-1980s as opportunity to moderate the fluctuations in fiber pri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CB72-A61B-438A-9EB5-E77CDB8A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 1, fluorescence microscopy is used to distinguish the adhesive from the wood. The stri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ature in this photograph is how large the wood interphase region is compared with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face, adhesive interphase, and bulk adhesive regions. Pictured is a relatively thick adhes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yer; often there may be no significant bulk adhesive layer. Although interface properties 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ortant, this figure shows that adhesive penetration into the wood could play a dominant rol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w of the adhesive to fill the surface micro-roughness is important for all bonding, b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hesive penetration into the substrate is not a significant issue in most bonding application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IHART ON BONDED WOOD PRODUCTS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ever, good penetration into the wood is a very important aspect of wood bonding.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ch as ASTM D 2559 require bond formation within the minimum and maximum of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ommended open and closed assembly times [9]. Sufficient penetration into the wood 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idered important for good bond formation, but overpenetration produces a starved bond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 is the weak link. Overpenetration does not occur with non-porous substrates; thus,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ctors need to be considered in formulating and using wood adhesives. A lower visco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hesive is normally better for the wetting and adhesion, but for wood the adhesive can be 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n as to overpenetrate into the woo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G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C38E-1F93-4A53-A100-567817EDF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ial stiffness (MPa/mm) is extracted from Shear-lag theory of DLS specimen with an imperfect interface. Let K be measured stiffness of specimen (N/mm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4C7E-9414-4E31-9398-7E8C8FD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9D9-0D5A-4BC4-9920-4FC210D9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7B0F-43A8-449D-826A-9BD8671C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424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00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424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00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20B-0CAC-4C8D-B2CE-FF6A0E0C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110-AD3A-4184-8651-2FC178C5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C46-F79F-4A5B-B764-4C6AE2AB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B487-0056-4D7B-8238-B8AF8184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D450-E9F1-4891-AFC8-F31D1BEF3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F06C-CC62-47EF-B856-BB2C5E6F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6A72-3326-4606-9D0E-9A0FA80D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7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E339-0BED-41F4-9D6C-BDB07A66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DC4-8282-4000-A201-0D147895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EF14-8750-41B6-B8CB-96F9923B4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tomsc2"/>
          <p:cNvPicPr/>
          <p:nvPr/>
        </p:nvPicPr>
        <p:blipFill>
          <a:blip r:embed="rId3"/>
          <a:srcRect l="0" t="0" r="0" b="7368"/>
          <a:stretch/>
        </p:blipFill>
        <p:spPr>
          <a:xfrm>
            <a:off x="0" y="0"/>
            <a:ext cx="692280" cy="6897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PM Simulations of the Mechanical Properties of Oriented Strand Board (OSB) Accounting for Undulating Strands and Imperfect Glue Bonds</a:t>
            </a: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066680" y="2819520"/>
            <a:ext cx="7113240" cy="91800"/>
            <a:chOff x="1066680" y="2819520"/>
            <a:chExt cx="7113240" cy="91800"/>
          </a:xfrm>
        </p:grpSpPr>
        <p:sp>
          <p:nvSpPr>
            <p:cNvPr id="51" name="Rectangle 4"/>
            <p:cNvSpPr/>
            <p:nvPr/>
          </p:nvSpPr>
          <p:spPr>
            <a:xfrm>
              <a:off x="1066680" y="2819520"/>
              <a:ext cx="7113240" cy="6336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1066680" y="2844000"/>
              <a:ext cx="7113240" cy="673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 Box 6"/>
          <p:cNvSpPr/>
          <p:nvPr/>
        </p:nvSpPr>
        <p:spPr>
          <a:xfrm>
            <a:off x="228600" y="61722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28600" y="1523880"/>
            <a:ext cx="822960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25320" y="1754280"/>
            <a:ext cx="772488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762120" y="31240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Edward A.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762120" y="3581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Ph.D. Cand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Arial"/>
              </a:rPr>
              <a:t>WS/MS Dual Maj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1680120" y="5029200"/>
            <a:ext cx="67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visor: Prof. &amp; Richardson Chair, John A. Nai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1676520" y="571500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5th MPM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Thursday and Friday, April 2-3, 2009</a:t>
            </a:r>
            <a:br>
              <a:rPr sz="1800"/>
            </a:b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Oregon State University Corvallis, OR, 97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39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Wood Hardening Law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78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5"/>
          <p:cNvGrpSpPr/>
          <p:nvPr/>
        </p:nvGrpSpPr>
        <p:grpSpPr>
          <a:xfrm>
            <a:off x="3457440" y="5700600"/>
            <a:ext cx="7462440" cy="1158480"/>
            <a:chOff x="3457440" y="5700600"/>
            <a:chExt cx="7462440" cy="1158480"/>
          </a:xfrm>
        </p:grpSpPr>
        <p:sp>
          <p:nvSpPr>
            <p:cNvPr id="197" name="Rectangle 6"/>
            <p:cNvSpPr/>
            <p:nvPr/>
          </p:nvSpPr>
          <p:spPr>
            <a:xfrm>
              <a:off x="3457440" y="5850360"/>
              <a:ext cx="7462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plastic strai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 determines the curvatur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 determine the volume of the plastic stra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Object 3"/>
                <p:cNvSpPr txBox="1"/>
                <p:nvPr/>
              </p:nvSpPr>
              <p:spPr>
                <a:xfrm>
                  <a:off x="4495320" y="5700600"/>
                  <a:ext cx="524160" cy="687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t xml:space="preserve">p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9" name="Picture 8" descr=""/>
          <p:cNvPicPr/>
          <p:nvPr/>
        </p:nvPicPr>
        <p:blipFill>
          <a:blip r:embed="rId2"/>
          <a:stretch/>
        </p:blipFill>
        <p:spPr>
          <a:xfrm>
            <a:off x="1793880" y="974880"/>
            <a:ext cx="6002280" cy="48574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Object 2"/>
              <p:cNvSpPr txBox="1"/>
              <p:nvPr/>
            </p:nvSpPr>
            <p:spPr>
              <a:xfrm>
                <a:off x="3046320" y="1803240"/>
                <a:ext cx="24480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Kε</m:t>
                        </m:r>
                      </m:e>
                      <m:sub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93280" y="-360"/>
            <a:ext cx="855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ample Simulation: OSB Compaction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2971800" y="3313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0% control surface V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2868480" y="5761080"/>
            <a:ext cx="4068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40% VTC surface st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ore are always control str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Macintosh HD:Users:jnairn:Documents:Committees:5th MPM Workshop:MPM Workshop CD:15-Le:control40i_newmech_nocrack.avi" descr="TravelDrive:MPM_Workshop:control40i_newmech_nocrack.avi"/>
          <p:cNvPicPr/>
          <p:nvPr/>
        </p:nvPicPr>
        <p:blipFill>
          <a:blip r:embed="rId2"/>
          <a:stretch/>
        </p:blipFill>
        <p:spPr>
          <a:xfrm>
            <a:off x="914400" y="1690560"/>
            <a:ext cx="7521480" cy="1627200"/>
          </a:xfrm>
          <a:prstGeom prst="rect">
            <a:avLst/>
          </a:prstGeom>
          <a:ln w="0">
            <a:noFill/>
          </a:ln>
        </p:spPr>
      </p:pic>
      <p:pic>
        <p:nvPicPr>
          <p:cNvPr id="205" name="Macintosh HD:Users:jnairn:Documents:Committees:5th MPM Workshop:MPM Workshop CD:15-Le:vtc40g_newmech_nocrack.avi" descr="TravelDrive:MPM_Workshop:vtc40g_newmech_nocrack.avi"/>
          <p:cNvPicPr/>
          <p:nvPr/>
        </p:nvPicPr>
        <p:blipFill>
          <a:blip r:embed="rId3"/>
          <a:stretch/>
        </p:blipFill>
        <p:spPr>
          <a:xfrm>
            <a:off x="914400" y="4143240"/>
            <a:ext cx="7521480" cy="15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" dur="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Mechanical Testing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3505320" y="1193760"/>
            <a:ext cx="26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oad in 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6" descr=""/>
          <p:cNvPicPr/>
          <p:nvPr/>
        </p:nvPicPr>
        <p:blipFill>
          <a:blip r:embed="rId2"/>
          <a:stretch/>
        </p:blipFill>
        <p:spPr>
          <a:xfrm>
            <a:off x="736560" y="4105440"/>
            <a:ext cx="8250120" cy="23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9"/>
          <p:cNvSpPr/>
          <p:nvPr/>
        </p:nvSpPr>
        <p:spPr>
          <a:xfrm>
            <a:off x="1893600" y="3753000"/>
            <a:ext cx="21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ntilever B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4578480" y="3730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ndi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Macintosh HD:Users:jnairn:Documents:Committees:5th MPM Workshop:MPM Workshop CD:15-Le:10%Compact_vtc40g4.avi" descr="TravelDrive:MPM_Workshop:10%Compact_vtc40g4.avi"/>
          <p:cNvPicPr/>
          <p:nvPr/>
        </p:nvPicPr>
        <p:blipFill>
          <a:blip r:embed="rId3"/>
          <a:stretch/>
        </p:blipFill>
        <p:spPr>
          <a:xfrm>
            <a:off x="727200" y="1606680"/>
            <a:ext cx="824688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11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11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8" descr=""/>
          <p:cNvPicPr/>
          <p:nvPr/>
        </p:nvPicPr>
        <p:blipFill>
          <a:blip r:embed="rId2"/>
          <a:stretch/>
        </p:blipFill>
        <p:spPr>
          <a:xfrm>
            <a:off x="1884240" y="787320"/>
            <a:ext cx="5842080" cy="4923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66880" y="-304920"/>
            <a:ext cx="7772400" cy="12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Simulation Results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14" name="Rectangle 20"/>
          <p:cNvSpPr/>
          <p:nvPr/>
        </p:nvSpPr>
        <p:spPr>
          <a:xfrm>
            <a:off x="3305160" y="1031760"/>
            <a:ext cx="932040" cy="3873600"/>
          </a:xfrm>
          <a:prstGeom prst="rect">
            <a:avLst/>
          </a:pr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5479920" y="1876320"/>
            <a:ext cx="139680" cy="3078360"/>
          </a:xfrm>
          <a:prstGeom prst="rect">
            <a:avLst/>
          </a:prstGeom>
          <a:solidFill>
            <a:srgbClr val="80808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2305080" y="5667480"/>
            <a:ext cx="55227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0% from 1% to 25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23% from 1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2% from 25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56% compare to no VTC at 1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"/>
          <p:cNvPicPr/>
          <p:nvPr/>
        </p:nvPicPr>
        <p:blipFill>
          <a:blip r:embed="rId2"/>
          <a:stretch/>
        </p:blipFill>
        <p:spPr>
          <a:xfrm>
            <a:off x="1873080" y="771480"/>
            <a:ext cx="6085080" cy="49467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1066680" y="0"/>
            <a:ext cx="777240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Simulation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3429000" y="1824120"/>
            <a:ext cx="947880" cy="312084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5564160" y="1825560"/>
            <a:ext cx="142920" cy="311472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2305080" y="5667480"/>
            <a:ext cx="59770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3% from 1% to 25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6% from 1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3% from 25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45% compare to no VTC at 1/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Results and Discussion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3335400" y="137304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VTC on the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Macintosh HD:Users:jnairn:Documents:Committees:5th MPM Workshop:MPM Workshop CD:15-Le:OSBRandomA1.avi" descr="TravelDrive:MPM_Workshop:OSBRandomA1.avi"/>
          <p:cNvPicPr/>
          <p:nvPr/>
        </p:nvPicPr>
        <p:blipFill>
          <a:blip r:embed="rId2"/>
          <a:stretch/>
        </p:blipFill>
        <p:spPr>
          <a:xfrm>
            <a:off x="631800" y="2195640"/>
            <a:ext cx="8512200" cy="13730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1863720" y="4002120"/>
            <a:ext cx="6343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structure, more comp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2"/>
          <a:stretch/>
        </p:blipFill>
        <p:spPr>
          <a:xfrm>
            <a:off x="1878120" y="851040"/>
            <a:ext cx="6003720" cy="49496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7"/>
          <p:cNvSpPr/>
          <p:nvPr/>
        </p:nvSpPr>
        <p:spPr>
          <a:xfrm>
            <a:off x="1066680" y="0"/>
            <a:ext cx="7772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Simulation Results: No V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3263760" y="1450800"/>
            <a:ext cx="743040" cy="356580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3"/>
          <p:cNvSpPr/>
          <p:nvPr/>
        </p:nvSpPr>
        <p:spPr>
          <a:xfrm flipH="1">
            <a:off x="4987800" y="1495440"/>
            <a:ext cx="130320" cy="353052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2208240" y="5942160"/>
            <a:ext cx="671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7%  from 1% to 25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8% form 1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0% from 25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7" descr=""/>
          <p:cNvPicPr/>
          <p:nvPr/>
        </p:nvPicPr>
        <p:blipFill>
          <a:blip r:embed="rId2"/>
          <a:stretch/>
        </p:blipFill>
        <p:spPr>
          <a:xfrm>
            <a:off x="1428840" y="749160"/>
            <a:ext cx="6043680" cy="5000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12"/>
          <p:cNvSpPr/>
          <p:nvPr/>
        </p:nvSpPr>
        <p:spPr>
          <a:xfrm>
            <a:off x="2735280" y="993600"/>
            <a:ext cx="750960" cy="404820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502160" y="979560"/>
            <a:ext cx="193680" cy="4062240"/>
          </a:xfrm>
          <a:prstGeom prst="rect">
            <a:avLst/>
          </a:prstGeom>
          <a:solidFill>
            <a:srgbClr val="808080">
              <a:alpha val="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359000" y="5667480"/>
            <a:ext cx="835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0% from 1% to 25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29% form 1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15% from 25% to 100%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E increased 70%, 80%, 95% and 116% compare to no V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55480" y="0"/>
            <a:ext cx="858852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imulation Results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urface VTC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omogenized R-O-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5008680" y="59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2"/>
              <p:cNvSpPr txBox="1"/>
              <p:nvPr/>
            </p:nvSpPr>
            <p:spPr>
              <a:xfrm>
                <a:off x="5143680" y="1506600"/>
                <a:ext cx="380016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9" name="Rectangle 5"/>
          <p:cNvSpPr/>
          <p:nvPr/>
        </p:nvSpPr>
        <p:spPr>
          <a:xfrm>
            <a:off x="2899800" y="3354480"/>
            <a:ext cx="368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=Thickness, E = Mod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3"/>
              <p:cNvSpPr txBox="1"/>
              <p:nvPr/>
            </p:nvSpPr>
            <p:spPr>
              <a:xfrm>
                <a:off x="2763720" y="4040280"/>
                <a:ext cx="300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Rectangle 7"/>
          <p:cNvSpPr/>
          <p:nvPr/>
        </p:nvSpPr>
        <p:spPr>
          <a:xfrm>
            <a:off x="2957040" y="4050360"/>
            <a:ext cx="39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Fraction of strand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1581480" y="5805360"/>
            <a:ext cx="66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gnores undulations, cannot mod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2754000" y="4640400"/>
            <a:ext cx="325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Fraction comp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814320" y="1442880"/>
            <a:ext cx="4008240" cy="1451160"/>
            <a:chOff x="814320" y="1442880"/>
            <a:chExt cx="4008240" cy="1451160"/>
          </a:xfrm>
        </p:grpSpPr>
        <p:sp>
          <p:nvSpPr>
            <p:cNvPr id="245" name="Rectangle 11"/>
            <p:cNvSpPr/>
            <p:nvPr/>
          </p:nvSpPr>
          <p:spPr>
            <a:xfrm>
              <a:off x="814320" y="1442880"/>
              <a:ext cx="4000320" cy="486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2"/>
            <p:cNvSpPr/>
            <p:nvPr/>
          </p:nvSpPr>
          <p:spPr>
            <a:xfrm>
              <a:off x="822240" y="1936800"/>
              <a:ext cx="4000320" cy="4856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822240" y="2408040"/>
              <a:ext cx="4000320" cy="48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1985760" y="1500120"/>
              <a:ext cx="14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15"/>
            <p:cNvSpPr/>
            <p:nvPr/>
          </p:nvSpPr>
          <p:spPr>
            <a:xfrm>
              <a:off x="2065320" y="1979640"/>
              <a:ext cx="14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6"/>
            <p:cNvSpPr/>
            <p:nvPr/>
          </p:nvSpPr>
          <p:spPr>
            <a:xfrm>
              <a:off x="2008080" y="2479680"/>
              <a:ext cx="1414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E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10666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Simulation Results: No VT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415880" y="933480"/>
            <a:ext cx="6669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3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33cc"/>
                </a:solidFill>
                <a:latin typeface="Arial Unicode MS"/>
                <a:ea typeface="Arial"/>
              </a:rPr>
              <a:t>Overview</a:t>
            </a:r>
            <a:endParaRPr b="0" lang="en-US" sz="39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68400" y="1272960"/>
            <a:ext cx="6662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OSB manufacturing proces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Motivation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Objective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Failure mechanics 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Calculation of interfacial stiffnes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Numerical simulation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MPM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Unicode MS"/>
                <a:ea typeface="Arial"/>
              </a:rPr>
              <a:t>Results</a:t>
            </a:r>
            <a:endParaRPr b="0" lang="en-US" sz="27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uture Pla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71680" y="0"/>
            <a:ext cx="857232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imulation Results: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urface VTC Str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"/>
          <p:cNvPicPr/>
          <p:nvPr/>
        </p:nvPicPr>
        <p:blipFill>
          <a:blip r:embed="rId2"/>
          <a:stretch/>
        </p:blipFill>
        <p:spPr>
          <a:xfrm>
            <a:off x="976320" y="874800"/>
            <a:ext cx="7162920" cy="53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0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Experiment: Density Profile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4229280" y="895320"/>
            <a:ext cx="12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V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658800" y="1389240"/>
            <a:ext cx="8229600" cy="492264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6"/>
          <p:cNvSpPr/>
          <p:nvPr/>
        </p:nvSpPr>
        <p:spPr>
          <a:xfrm>
            <a:off x="3328920" y="64911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Vardam Rat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163600" y="188604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1.08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4214880" y="315432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0.60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6716880" y="252108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0.820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9"/>
          <p:cNvSpPr/>
          <p:nvPr/>
        </p:nvSpPr>
        <p:spPr>
          <a:xfrm flipH="1">
            <a:off x="1974960" y="2133720"/>
            <a:ext cx="333360" cy="8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Simulation: Density Profile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4224960" y="89532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No V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Content Placeholder 3" descr="control40i_NewMechNocrackDensityCombine_interval50_PlugMinut45_.pdf"/>
          <p:cNvPicPr/>
          <p:nvPr/>
        </p:nvPicPr>
        <p:blipFill>
          <a:blip r:embed="rId2"/>
          <a:stretch/>
        </p:blipFill>
        <p:spPr>
          <a:xfrm>
            <a:off x="1079640" y="1501920"/>
            <a:ext cx="730080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27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Experiment: Density Profile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811080" y="1309680"/>
            <a:ext cx="8332920" cy="4984920"/>
          </a:xfrm>
          <a:prstGeom prst="rect">
            <a:avLst/>
          </a:prstGeom>
          <a:ln w="0">
            <a:noFill/>
          </a:ln>
        </p:spPr>
      </p:pic>
      <p:sp>
        <p:nvSpPr>
          <p:cNvPr id="268" name="TextBox 2"/>
          <p:cNvSpPr/>
          <p:nvPr/>
        </p:nvSpPr>
        <p:spPr>
          <a:xfrm>
            <a:off x="2660760" y="85572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% by weight VTC surface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967120" y="649116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tesy of Vardam Rat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06800" y="2046240"/>
            <a:ext cx="149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0.97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6480000" y="206532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0.96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8"/>
          <p:cNvSpPr/>
          <p:nvPr/>
        </p:nvSpPr>
        <p:spPr>
          <a:xfrm>
            <a:off x="4950000" y="3251160"/>
            <a:ext cx="24588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4273560" y="28209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0.48g/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 Unicode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27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Simulation: Density Profile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pic>
        <p:nvPicPr>
          <p:cNvPr id="275" name="Picture 3" descr="vtc40g_NewMechNocrackDensity_Combine.pdf"/>
          <p:cNvPicPr/>
          <p:nvPr/>
        </p:nvPicPr>
        <p:blipFill>
          <a:blip r:embed="rId2"/>
          <a:stretch/>
        </p:blipFill>
        <p:spPr>
          <a:xfrm>
            <a:off x="1109520" y="1295280"/>
            <a:ext cx="6896160" cy="5562720"/>
          </a:xfrm>
          <a:prstGeom prst="rect">
            <a:avLst/>
          </a:prstGeom>
          <a:ln w="0">
            <a:noFill/>
          </a:ln>
        </p:spPr>
      </p:pic>
      <p:sp>
        <p:nvSpPr>
          <p:cNvPr id="276" name="TextBox 2"/>
          <p:cNvSpPr/>
          <p:nvPr/>
        </p:nvSpPr>
        <p:spPr>
          <a:xfrm>
            <a:off x="2660760" y="855720"/>
            <a:ext cx="449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0% by weight VTC surface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Conclusions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61680" y="1039680"/>
            <a:ext cx="7924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Interfacial stiffness can be measured with DLS specimen and varies significantly from 1% to 100%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Simulations show that adhesive coverage on strands affects MOE of OSB panel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MPM is useful tool for modeling mechanical properties of wood based composites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More work is needed to determine </a:t>
            </a:r>
            <a:r>
              <a:rPr b="0" i="1" lang="en-US" sz="26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 Unicode MS"/>
              </a:rPr>
              <a:t>t  </a:t>
            </a:r>
            <a:r>
              <a:rPr b="0" lang="en-US" sz="2600" spc="-1" strike="noStrike">
                <a:solidFill>
                  <a:srgbClr val="000000"/>
                </a:solidFill>
                <a:latin typeface="Arial Unicode MS"/>
              </a:rPr>
              <a:t>more precisely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Future Plans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4400" y="12189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ing investigation the effect of interfacial properties of adhesives on mechanical behavior of OSB panels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igating the effect of moisture content on mechanical properties of OSB.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ing the effect of bending properties of OSB using MPM for different amounts of compaction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vestigation of MPM on elastic and plastic behavior to simulate OSB compaction/tension lo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y the effect of the gap size and strand length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Acknowledgements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143000" y="1523880"/>
            <a:ext cx="7488360" cy="50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9360" bIns="936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. John Nairn for financial support and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. Fred Kamke for supplied the PF resin and hybrid poplar strands and experimental 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f. Greg Smith for uniformly dispersed resin onto wood st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.D.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. Peter Kitin for S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SE dept. staff, Milo, Connie, Cam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 Group (Noah, Ariji, Dr. L. X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aduate Student (Guenter, Varda, Ning, Kai, Farzana, Xiaoou, Debbie, Dav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Introduction - </a:t>
            </a:r>
            <a:r>
              <a:rPr b="0" lang="en-US" sz="4400" spc="-1" strike="noStrike">
                <a:solidFill>
                  <a:srgbClr val="3333cc"/>
                </a:solidFill>
                <a:latin typeface="Arial Unicode MS"/>
                <a:ea typeface="Arial"/>
              </a:rPr>
              <a:t>OSB</a:t>
            </a:r>
            <a:endParaRPr b="0" lang="en-US" sz="4400" spc="-1" strike="noStrike">
              <a:solidFill>
                <a:srgbClr val="3333cc"/>
              </a:solidFill>
              <a:latin typeface="Arial Unicode MS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735120" y="156528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6"/>
          <p:cNvSpPr/>
          <p:nvPr/>
        </p:nvSpPr>
        <p:spPr>
          <a:xfrm>
            <a:off x="722160" y="5751360"/>
            <a:ext cx="30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Prof. F. Kam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IMG_3100"/>
          <p:cNvPicPr/>
          <p:nvPr/>
        </p:nvPicPr>
        <p:blipFill>
          <a:blip r:embed="rId3"/>
          <a:stretch/>
        </p:blipFill>
        <p:spPr>
          <a:xfrm>
            <a:off x="5786280" y="1446120"/>
            <a:ext cx="3083040" cy="2311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G_4978"/>
          <p:cNvPicPr/>
          <p:nvPr/>
        </p:nvPicPr>
        <p:blipFill>
          <a:blip r:embed="rId4"/>
          <a:stretch/>
        </p:blipFill>
        <p:spPr>
          <a:xfrm>
            <a:off x="5854680" y="4591080"/>
            <a:ext cx="3024360" cy="22669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4987800" y="2727360"/>
            <a:ext cx="614520" cy="43164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1"/>
          <p:cNvSpPr/>
          <p:nvPr/>
        </p:nvSpPr>
        <p:spPr>
          <a:xfrm rot="5400000">
            <a:off x="7070040" y="3918600"/>
            <a:ext cx="614160" cy="4320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12360" y="941400"/>
            <a:ext cx="853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brid Poplar : clon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pulus deltoid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pulus trichocarp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troduction -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874800" y="1468440"/>
            <a:ext cx="77724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SB producers want to minimize the resin content of their board while maintaining required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much resin on each str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’s the effect of resin coverage on mechanical proper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make use of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Viscoelastic Thermal Compression (VTC) stra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ＭＳ Ｐゴシック"/>
              </a:rPr>
              <a:t>Densified strands from hybrid poplar to get stiffer and stronger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Introduction – </a:t>
            </a:r>
            <a:r>
              <a:rPr b="0" lang="en-US" sz="3200" spc="-1" strike="noStrike">
                <a:solidFill>
                  <a:srgbClr val="3333cc"/>
                </a:solidFill>
                <a:latin typeface="Arial Unicode MS"/>
              </a:rPr>
              <a:t>Objectives</a:t>
            </a:r>
            <a:endParaRPr b="0" lang="en-US" sz="32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the glue-bond interfacial stiffness as a function of adhesive coverage on strand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numerical model for studying the mechanical properties of OSB as a function of glue-bond stiffness (and more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85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3333cc"/>
                </a:solidFill>
                <a:latin typeface="Arial Unicode MS"/>
              </a:rPr>
              <a:t>Rationale:</a:t>
            </a: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 Bondline - Fluorescence Microscopy 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2"/>
          <a:stretch/>
        </p:blipFill>
        <p:spPr>
          <a:xfrm>
            <a:off x="2502000" y="1981080"/>
            <a:ext cx="459576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7"/>
          <p:cNvSpPr/>
          <p:nvPr/>
        </p:nvSpPr>
        <p:spPr>
          <a:xfrm>
            <a:off x="3507840" y="617220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C. Frihart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990720" y="1295280"/>
            <a:ext cx="7113240" cy="91800"/>
            <a:chOff x="990720" y="1295280"/>
            <a:chExt cx="7113240" cy="91800"/>
          </a:xfrm>
        </p:grpSpPr>
        <p:sp>
          <p:nvSpPr>
            <p:cNvPr id="78" name="Rectangle 4"/>
            <p:cNvSpPr/>
            <p:nvPr/>
          </p:nvSpPr>
          <p:spPr>
            <a:xfrm>
              <a:off x="990720" y="1295280"/>
              <a:ext cx="7113240" cy="637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990720" y="1319760"/>
              <a:ext cx="7113240" cy="673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Picture 1.png"/>
          <p:cNvPicPr/>
          <p:nvPr/>
        </p:nvPicPr>
        <p:blipFill>
          <a:blip r:embed="rId2"/>
          <a:stretch/>
        </p:blipFill>
        <p:spPr>
          <a:xfrm>
            <a:off x="3668760" y="1623960"/>
            <a:ext cx="5342040" cy="2720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Glue Line Mechanics </a:t>
            </a: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1066680" y="12952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erfect 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124"/>
          <p:cNvGrpSpPr/>
          <p:nvPr/>
        </p:nvGrpSpPr>
        <p:grpSpPr>
          <a:xfrm>
            <a:off x="762120" y="1752480"/>
            <a:ext cx="2361600" cy="2298600"/>
            <a:chOff x="762120" y="1752480"/>
            <a:chExt cx="2361600" cy="2298600"/>
          </a:xfrm>
        </p:grpSpPr>
        <p:grpSp>
          <p:nvGrpSpPr>
            <p:cNvPr id="84" name="Group 23"/>
            <p:cNvGrpSpPr/>
            <p:nvPr/>
          </p:nvGrpSpPr>
          <p:grpSpPr>
            <a:xfrm>
              <a:off x="762120" y="1841400"/>
              <a:ext cx="2361600" cy="2107800"/>
              <a:chOff x="762120" y="1841400"/>
              <a:chExt cx="2361600" cy="2107800"/>
            </a:xfrm>
          </p:grpSpPr>
          <p:sp>
            <p:nvSpPr>
              <p:cNvPr id="85" name="Line 7"/>
              <p:cNvSpPr/>
              <p:nvPr/>
            </p:nvSpPr>
            <p:spPr>
              <a:xfrm flipH="1">
                <a:off x="762120" y="1841400"/>
                <a:ext cx="874800" cy="210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8"/>
              <p:cNvSpPr/>
              <p:nvPr/>
            </p:nvSpPr>
            <p:spPr>
              <a:xfrm>
                <a:off x="762120" y="3949200"/>
                <a:ext cx="1487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9"/>
              <p:cNvSpPr/>
              <p:nvPr/>
            </p:nvSpPr>
            <p:spPr>
              <a:xfrm>
                <a:off x="1636920" y="1841400"/>
                <a:ext cx="148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10"/>
              <p:cNvSpPr/>
              <p:nvPr/>
            </p:nvSpPr>
            <p:spPr>
              <a:xfrm flipH="1">
                <a:off x="2248920" y="1841400"/>
                <a:ext cx="874440" cy="2107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4"/>
              <p:cNvSpPr/>
              <p:nvPr/>
            </p:nvSpPr>
            <p:spPr>
              <a:xfrm>
                <a:off x="1199520" y="2895120"/>
                <a:ext cx="148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Line 15"/>
            <p:cNvSpPr/>
            <p:nvPr/>
          </p:nvSpPr>
          <p:spPr>
            <a:xfrm flipH="1">
              <a:off x="1218960" y="4051080"/>
              <a:ext cx="523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6"/>
            <p:cNvSpPr/>
            <p:nvPr/>
          </p:nvSpPr>
          <p:spPr>
            <a:xfrm>
              <a:off x="2057040" y="1752480"/>
              <a:ext cx="525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17"/>
          <p:cNvSpPr/>
          <p:nvPr/>
        </p:nvSpPr>
        <p:spPr>
          <a:xfrm>
            <a:off x="1371600" y="42670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 Unicode MS"/>
              </a:rPr>
              <a:t>t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8"/>
              <p:cNvSpPr txBox="1"/>
              <p:nvPr/>
            </p:nvSpPr>
            <p:spPr>
              <a:xfrm>
                <a:off x="4514760" y="316872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Rectangle 20"/>
          <p:cNvSpPr/>
          <p:nvPr/>
        </p:nvSpPr>
        <p:spPr>
          <a:xfrm>
            <a:off x="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9"/>
              <p:cNvSpPr txBox="1"/>
              <p:nvPr/>
            </p:nvSpPr>
            <p:spPr>
              <a:xfrm>
                <a:off x="1828800" y="4343400"/>
                <a:ext cx="3049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Text Box 64"/>
          <p:cNvSpPr/>
          <p:nvPr/>
        </p:nvSpPr>
        <p:spPr>
          <a:xfrm>
            <a:off x="4724280" y="2209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5"/>
          <p:cNvSpPr/>
          <p:nvPr/>
        </p:nvSpPr>
        <p:spPr>
          <a:xfrm>
            <a:off x="7467480" y="2209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525780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mperfect 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95"/>
          <p:cNvGrpSpPr/>
          <p:nvPr/>
        </p:nvGrpSpPr>
        <p:grpSpPr>
          <a:xfrm>
            <a:off x="4495680" y="5257800"/>
            <a:ext cx="1143000" cy="405720"/>
            <a:chOff x="4495680" y="5257800"/>
            <a:chExt cx="1143000" cy="405720"/>
          </a:xfrm>
        </p:grpSpPr>
        <p:sp>
          <p:nvSpPr>
            <p:cNvPr id="100" name="Text Box 68"/>
            <p:cNvSpPr/>
            <p:nvPr/>
          </p:nvSpPr>
          <p:spPr>
            <a:xfrm>
              <a:off x="4495680" y="52578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9"/>
            <p:cNvSpPr/>
            <p:nvPr/>
          </p:nvSpPr>
          <p:spPr>
            <a:xfrm>
              <a:off x="4952880" y="54864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Object 70"/>
                <p:cNvSpPr txBox="1"/>
                <p:nvPr/>
              </p:nvSpPr>
              <p:spPr>
                <a:xfrm>
                  <a:off x="5333760" y="5334120"/>
                  <a:ext cx="304920" cy="24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Group 97"/>
          <p:cNvGrpSpPr/>
          <p:nvPr/>
        </p:nvGrpSpPr>
        <p:grpSpPr>
          <a:xfrm>
            <a:off x="5867280" y="5257800"/>
            <a:ext cx="1295280" cy="405720"/>
            <a:chOff x="5867280" y="5257800"/>
            <a:chExt cx="1295280" cy="405720"/>
          </a:xfrm>
        </p:grpSpPr>
        <p:sp>
          <p:nvSpPr>
            <p:cNvPr id="104" name="Text Box 74"/>
            <p:cNvSpPr/>
            <p:nvPr/>
          </p:nvSpPr>
          <p:spPr>
            <a:xfrm>
              <a:off x="5867280" y="52578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[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75"/>
            <p:cNvSpPr/>
            <p:nvPr/>
          </p:nvSpPr>
          <p:spPr>
            <a:xfrm>
              <a:off x="6400800" y="54864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77"/>
            <p:cNvSpPr/>
            <p:nvPr/>
          </p:nvSpPr>
          <p:spPr>
            <a:xfrm>
              <a:off x="6781680" y="52578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96"/>
          <p:cNvGrpSpPr/>
          <p:nvPr/>
        </p:nvGrpSpPr>
        <p:grpSpPr>
          <a:xfrm>
            <a:off x="4495680" y="5715000"/>
            <a:ext cx="1218960" cy="405720"/>
            <a:chOff x="4495680" y="5715000"/>
            <a:chExt cx="1218960" cy="405720"/>
          </a:xfrm>
        </p:grpSpPr>
        <p:sp>
          <p:nvSpPr>
            <p:cNvPr id="108" name="Text Box 71"/>
            <p:cNvSpPr/>
            <p:nvPr/>
          </p:nvSpPr>
          <p:spPr>
            <a:xfrm>
              <a:off x="4495680" y="571500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72"/>
            <p:cNvSpPr/>
            <p:nvPr/>
          </p:nvSpPr>
          <p:spPr>
            <a:xfrm>
              <a:off x="4952880" y="5943600"/>
              <a:ext cx="30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78"/>
            <p:cNvSpPr/>
            <p:nvPr/>
          </p:nvSpPr>
          <p:spPr>
            <a:xfrm>
              <a:off x="5333760" y="57150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82"/>
          <p:cNvSpPr/>
          <p:nvPr/>
        </p:nvSpPr>
        <p:spPr>
          <a:xfrm>
            <a:off x="0" y="3174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4"/>
          <p:cNvSpPr/>
          <p:nvPr/>
        </p:nvSpPr>
        <p:spPr>
          <a:xfrm>
            <a:off x="4462560" y="29631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5"/>
          <p:cNvSpPr/>
          <p:nvPr/>
        </p:nvSpPr>
        <p:spPr>
          <a:xfrm>
            <a:off x="4461480" y="33613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7"/>
          <p:cNvSpPr/>
          <p:nvPr/>
        </p:nvSpPr>
        <p:spPr>
          <a:xfrm>
            <a:off x="4462560" y="296316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8"/>
          <p:cNvSpPr/>
          <p:nvPr/>
        </p:nvSpPr>
        <p:spPr>
          <a:xfrm>
            <a:off x="4461480" y="3361320"/>
            <a:ext cx="211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90"/>
          <p:cNvSpPr/>
          <p:nvPr/>
        </p:nvSpPr>
        <p:spPr>
          <a:xfrm>
            <a:off x="0" y="3184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9"/>
          <p:cNvSpPr/>
          <p:nvPr/>
        </p:nvSpPr>
        <p:spPr>
          <a:xfrm>
            <a:off x="0" y="3174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5"/>
          <p:cNvSpPr/>
          <p:nvPr/>
        </p:nvSpPr>
        <p:spPr>
          <a:xfrm>
            <a:off x="7238880" y="57150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123"/>
          <p:cNvGrpSpPr/>
          <p:nvPr/>
        </p:nvGrpSpPr>
        <p:grpSpPr>
          <a:xfrm>
            <a:off x="5943600" y="5715000"/>
            <a:ext cx="2438280" cy="371520"/>
            <a:chOff x="5943600" y="5715000"/>
            <a:chExt cx="2438280" cy="371520"/>
          </a:xfrm>
        </p:grpSpPr>
        <p:grpSp>
          <p:nvGrpSpPr>
            <p:cNvPr id="120" name="Group 114"/>
            <p:cNvGrpSpPr/>
            <p:nvPr/>
          </p:nvGrpSpPr>
          <p:grpSpPr>
            <a:xfrm>
              <a:off x="5943600" y="5715000"/>
              <a:ext cx="1066320" cy="371520"/>
              <a:chOff x="5943600" y="5715000"/>
              <a:chExt cx="1066320" cy="371520"/>
            </a:xfrm>
          </p:grpSpPr>
          <mc:AlternateContent>
            <mc:Choice xmlns:a14="http://schemas.microsoft.com/office/drawing/2010/main" Requires="a14">
              <p:sp>
                <p:nvSpPr>
                  <p:cNvPr id="121" name="Object 98"/>
                  <p:cNvSpPr txBox="1"/>
                  <p:nvPr/>
                </p:nvSpPr>
                <p:spPr>
                  <a:xfrm>
                    <a:off x="5943600" y="5791320"/>
                    <a:ext cx="255240" cy="295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τ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22" name="Line 102"/>
              <p:cNvSpPr/>
              <p:nvPr/>
            </p:nvSpPr>
            <p:spPr>
              <a:xfrm>
                <a:off x="6248160" y="5943600"/>
                <a:ext cx="304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Text Box 103"/>
              <p:cNvSpPr/>
              <p:nvPr/>
            </p:nvSpPr>
            <p:spPr>
              <a:xfrm>
                <a:off x="6629040" y="571500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Text Box 106"/>
            <p:cNvSpPr/>
            <p:nvPr/>
          </p:nvSpPr>
          <p:spPr>
            <a:xfrm>
              <a:off x="6858000" y="5715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Unicode MS"/>
                </a:rPr>
                <a:t>(debond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5" name="Object 93"/>
              <p:cNvSpPr txBox="1"/>
              <p:nvPr/>
            </p:nvSpPr>
            <p:spPr>
              <a:xfrm>
                <a:off x="4648320" y="4343400"/>
                <a:ext cx="13716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6" name="Text Box 107"/>
          <p:cNvSpPr/>
          <p:nvPr/>
        </p:nvSpPr>
        <p:spPr>
          <a:xfrm>
            <a:off x="6172200" y="45720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where      is shear st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09"/>
              <p:cNvSpPr txBox="1"/>
              <p:nvPr/>
            </p:nvSpPr>
            <p:spPr>
              <a:xfrm>
                <a:off x="7045200" y="4632480"/>
                <a:ext cx="255600" cy="29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8" name="Group 128"/>
          <p:cNvGrpSpPr/>
          <p:nvPr/>
        </p:nvGrpSpPr>
        <p:grpSpPr>
          <a:xfrm>
            <a:off x="938160" y="6099120"/>
            <a:ext cx="3200400" cy="405720"/>
            <a:chOff x="938160" y="6099120"/>
            <a:chExt cx="3200400" cy="405720"/>
          </a:xfrm>
        </p:grpSpPr>
        <p:sp>
          <p:nvSpPr>
            <p:cNvPr id="129" name="Line 110"/>
            <p:cNvSpPr/>
            <p:nvPr/>
          </p:nvSpPr>
          <p:spPr>
            <a:xfrm>
              <a:off x="1700280" y="630072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11"/>
            <p:cNvSpPr/>
            <p:nvPr/>
          </p:nvSpPr>
          <p:spPr>
            <a:xfrm>
              <a:off x="2081160" y="6099120"/>
              <a:ext cx="205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Measure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 Unicode MS"/>
                </a:rPr>
                <a:t>D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 Unicode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12"/>
            <p:cNvSpPr/>
            <p:nvPr/>
          </p:nvSpPr>
          <p:spPr>
            <a:xfrm>
              <a:off x="938160" y="60991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Unicode MS"/>
                </a:rPr>
                <a:t>Go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17"/>
          <p:cNvSpPr/>
          <p:nvPr/>
        </p:nvSpPr>
        <p:spPr>
          <a:xfrm>
            <a:off x="2286000" y="649116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8"/>
          <p:cNvSpPr/>
          <p:nvPr/>
        </p:nvSpPr>
        <p:spPr>
          <a:xfrm>
            <a:off x="6310440" y="6553080"/>
            <a:ext cx="28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apted from Nairn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0"/>
          <p:cNvSpPr/>
          <p:nvPr/>
        </p:nvSpPr>
        <p:spPr>
          <a:xfrm>
            <a:off x="4495680" y="6172200"/>
            <a:ext cx="320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Unicode MS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 Unicode MS"/>
              </a:rPr>
              <a:t>t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s glue-line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6"/>
          <p:cNvSpPr/>
          <p:nvPr/>
        </p:nvSpPr>
        <p:spPr>
          <a:xfrm>
            <a:off x="3048120" y="2743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lipp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 Unicode MS"/>
              </a:rPr>
              <a:t>Calculation of Interfacial Stiffness D</a:t>
            </a:r>
            <a:r>
              <a:rPr b="0" lang="en-US" sz="3600" spc="-1" strike="noStrike" baseline="-25000">
                <a:solidFill>
                  <a:srgbClr val="3333cc"/>
                </a:solidFill>
                <a:latin typeface="Arial Unicode MS"/>
              </a:rPr>
              <a:t>t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 Unicode MS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990720" y="1295280"/>
            <a:ext cx="7113240" cy="91800"/>
            <a:chOff x="990720" y="1295280"/>
            <a:chExt cx="7113240" cy="91800"/>
          </a:xfrm>
        </p:grpSpPr>
        <p:sp>
          <p:nvSpPr>
            <p:cNvPr id="138" name="Rectangle 4"/>
            <p:cNvSpPr/>
            <p:nvPr/>
          </p:nvSpPr>
          <p:spPr>
            <a:xfrm>
              <a:off x="990720" y="1295280"/>
              <a:ext cx="7113240" cy="63720"/>
            </a:xfrm>
            <a:prstGeom prst="rect">
              <a:avLst/>
            </a:prstGeom>
            <a:gradFill rotWithShape="0">
              <a:gsLst>
                <a:gs pos="0">
                  <a:srgbClr val="b200b2"/>
                </a:gs>
                <a:gs pos="50000">
                  <a:srgbClr val="ff00ff"/>
                </a:gs>
                <a:gs pos="100000">
                  <a:srgbClr val="b200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990720" y="1319760"/>
              <a:ext cx="7113240" cy="6732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c0c0"/>
                </a:gs>
                <a:gs pos="100000">
                  <a:srgbClr val="006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7"/>
          <p:cNvGrpSpPr/>
          <p:nvPr/>
        </p:nvGrpSpPr>
        <p:grpSpPr>
          <a:xfrm>
            <a:off x="5943600" y="1649520"/>
            <a:ext cx="3427920" cy="5211000"/>
            <a:chOff x="5943600" y="1649520"/>
            <a:chExt cx="3427920" cy="5211000"/>
          </a:xfrm>
        </p:grpSpPr>
        <p:grpSp>
          <p:nvGrpSpPr>
            <p:cNvPr id="141" name="Group 8"/>
            <p:cNvGrpSpPr/>
            <p:nvPr/>
          </p:nvGrpSpPr>
          <p:grpSpPr>
            <a:xfrm>
              <a:off x="5943600" y="1649520"/>
              <a:ext cx="3427920" cy="4482720"/>
              <a:chOff x="5943600" y="1649520"/>
              <a:chExt cx="3427920" cy="4482720"/>
            </a:xfrm>
          </p:grpSpPr>
          <p:grpSp>
            <p:nvGrpSpPr>
              <p:cNvPr id="142" name="Group 9"/>
              <p:cNvGrpSpPr/>
              <p:nvPr/>
            </p:nvGrpSpPr>
            <p:grpSpPr>
              <a:xfrm>
                <a:off x="5943600" y="1649520"/>
                <a:ext cx="3427920" cy="4482720"/>
                <a:chOff x="5943600" y="1649520"/>
                <a:chExt cx="3427920" cy="4482720"/>
              </a:xfrm>
            </p:grpSpPr>
            <p:sp>
              <p:nvSpPr>
                <p:cNvPr id="143" name="Text Box 10"/>
                <p:cNvSpPr/>
                <p:nvPr/>
              </p:nvSpPr>
              <p:spPr>
                <a:xfrm>
                  <a:off x="5943600" y="1649520"/>
                  <a:ext cx="8431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11"/>
                <p:cNvSpPr/>
                <p:nvPr/>
              </p:nvSpPr>
              <p:spPr>
                <a:xfrm>
                  <a:off x="7324920" y="1649520"/>
                  <a:ext cx="8449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(1-F)P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2"/>
                <p:cNvSpPr/>
                <p:nvPr/>
              </p:nvSpPr>
              <p:spPr>
                <a:xfrm>
                  <a:off x="6103080" y="2460600"/>
                  <a:ext cx="594360" cy="29304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13"/>
                <p:cNvSpPr/>
                <p:nvPr/>
              </p:nvSpPr>
              <p:spPr>
                <a:xfrm>
                  <a:off x="7473960" y="2460600"/>
                  <a:ext cx="594720" cy="29304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14"/>
                <p:cNvSpPr/>
                <p:nvPr/>
              </p:nvSpPr>
              <p:spPr>
                <a:xfrm>
                  <a:off x="6697440" y="3191040"/>
                  <a:ext cx="776160" cy="293040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" name="Group 15"/>
                <p:cNvGrpSpPr/>
                <p:nvPr/>
              </p:nvGrpSpPr>
              <p:grpSpPr>
                <a:xfrm>
                  <a:off x="7108920" y="2267280"/>
                  <a:ext cx="1943280" cy="3124080"/>
                  <a:chOff x="7108920" y="2267280"/>
                  <a:chExt cx="1943280" cy="3124080"/>
                </a:xfrm>
              </p:grpSpPr>
              <p:sp>
                <p:nvSpPr>
                  <p:cNvPr id="149" name="Line 16"/>
                  <p:cNvSpPr/>
                  <p:nvPr/>
                </p:nvSpPr>
                <p:spPr>
                  <a:xfrm>
                    <a:off x="7108920" y="2267280"/>
                    <a:ext cx="0" cy="31240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Line 17"/>
                  <p:cNvSpPr/>
                  <p:nvPr/>
                </p:nvSpPr>
                <p:spPr>
                  <a:xfrm>
                    <a:off x="7108920" y="5391360"/>
                    <a:ext cx="194328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prstDash val="dash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1" name="Text Box 18"/>
                <p:cNvSpPr/>
                <p:nvPr/>
              </p:nvSpPr>
              <p:spPr>
                <a:xfrm>
                  <a:off x="7020360" y="1879200"/>
                  <a:ext cx="3160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Text Box 19"/>
                <p:cNvSpPr/>
                <p:nvPr/>
              </p:nvSpPr>
              <p:spPr>
                <a:xfrm>
                  <a:off x="9054720" y="5185080"/>
                  <a:ext cx="31680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20"/>
                <p:cNvSpPr/>
                <p:nvPr/>
              </p:nvSpPr>
              <p:spPr>
                <a:xfrm flipV="1">
                  <a:off x="6391080" y="1943640"/>
                  <a:ext cx="0" cy="51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1"/>
                <p:cNvSpPr/>
                <p:nvPr/>
              </p:nvSpPr>
              <p:spPr>
                <a:xfrm flipV="1">
                  <a:off x="7748280" y="1943640"/>
                  <a:ext cx="0" cy="516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22"/>
                <p:cNvSpPr/>
                <p:nvPr/>
              </p:nvSpPr>
              <p:spPr>
                <a:xfrm>
                  <a:off x="5969880" y="4140360"/>
                  <a:ext cx="84456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G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Text Box 23"/>
                <p:cNvSpPr/>
                <p:nvPr/>
              </p:nvSpPr>
              <p:spPr>
                <a:xfrm>
                  <a:off x="6697440" y="5428800"/>
                  <a:ext cx="84708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G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Text Box 24"/>
                <p:cNvSpPr/>
                <p:nvPr/>
              </p:nvSpPr>
              <p:spPr>
                <a:xfrm>
                  <a:off x="6697440" y="5713560"/>
                  <a:ext cx="84708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Text Box 25"/>
                <p:cNvSpPr/>
                <p:nvPr/>
              </p:nvSpPr>
              <p:spPr>
                <a:xfrm>
                  <a:off x="5969880" y="5016240"/>
                  <a:ext cx="84456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26"/>
                <p:cNvSpPr/>
                <p:nvPr/>
              </p:nvSpPr>
              <p:spPr>
                <a:xfrm flipV="1">
                  <a:off x="6391080" y="5403960"/>
                  <a:ext cx="0" cy="24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27"/>
                <p:cNvSpPr/>
                <p:nvPr/>
              </p:nvSpPr>
              <p:spPr>
                <a:xfrm flipV="1">
                  <a:off x="8389440" y="2474640"/>
                  <a:ext cx="0" cy="24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28"/>
                <p:cNvSpPr/>
                <p:nvPr/>
              </p:nvSpPr>
              <p:spPr>
                <a:xfrm>
                  <a:off x="6391080" y="5833440"/>
                  <a:ext cx="0" cy="27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29"/>
                <p:cNvSpPr/>
                <p:nvPr/>
              </p:nvSpPr>
              <p:spPr>
                <a:xfrm>
                  <a:off x="8389440" y="2916720"/>
                  <a:ext cx="0" cy="274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>
                  <a:off x="8145720" y="2460600"/>
                  <a:ext cx="493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>
                  <a:off x="6103080" y="6132240"/>
                  <a:ext cx="4575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Text Box 32"/>
                <p:cNvSpPr/>
                <p:nvPr/>
              </p:nvSpPr>
              <p:spPr>
                <a:xfrm>
                  <a:off x="5969880" y="5565960"/>
                  <a:ext cx="84456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Text Box 33"/>
                <p:cNvSpPr/>
                <p:nvPr/>
              </p:nvSpPr>
              <p:spPr>
                <a:xfrm>
                  <a:off x="7966080" y="2634120"/>
                  <a:ext cx="84672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34"/>
                <p:cNvSpPr/>
                <p:nvPr/>
              </p:nvSpPr>
              <p:spPr>
                <a:xfrm>
                  <a:off x="8169840" y="3198240"/>
                  <a:ext cx="4694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35"/>
                <p:cNvSpPr/>
                <p:nvPr/>
              </p:nvSpPr>
              <p:spPr>
                <a:xfrm>
                  <a:off x="8389440" y="4406760"/>
                  <a:ext cx="0" cy="960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36"/>
                <p:cNvSpPr/>
                <p:nvPr/>
              </p:nvSpPr>
              <p:spPr>
                <a:xfrm flipV="1">
                  <a:off x="8389440" y="3204720"/>
                  <a:ext cx="0" cy="86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Text Box 37"/>
                <p:cNvSpPr/>
                <p:nvPr/>
              </p:nvSpPr>
              <p:spPr>
                <a:xfrm>
                  <a:off x="7966080" y="4078440"/>
                  <a:ext cx="84672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38"/>
                <p:cNvSpPr/>
                <p:nvPr/>
              </p:nvSpPr>
              <p:spPr>
                <a:xfrm>
                  <a:off x="6849000" y="3781800"/>
                  <a:ext cx="52020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39"/>
                <p:cNvSpPr/>
                <p:nvPr/>
              </p:nvSpPr>
              <p:spPr>
                <a:xfrm flipH="1">
                  <a:off x="6697440" y="3969360"/>
                  <a:ext cx="22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40"/>
                <p:cNvSpPr/>
                <p:nvPr/>
              </p:nvSpPr>
              <p:spPr>
                <a:xfrm>
                  <a:off x="7200000" y="3971520"/>
                  <a:ext cx="273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41"/>
                <p:cNvSpPr/>
                <p:nvPr/>
              </p:nvSpPr>
              <p:spPr>
                <a:xfrm>
                  <a:off x="7544880" y="3781800"/>
                  <a:ext cx="526320" cy="32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8480" rIns="78480" tIns="39240" bIns="3924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784080"/>
                      <a:tab algn="l" pos="1568520"/>
                      <a:tab algn="l" pos="2352600"/>
                      <a:tab algn="l" pos="3137040"/>
                      <a:tab algn="l" pos="3921120"/>
                      <a:tab algn="l" pos="4705200"/>
                      <a:tab algn="l" pos="5489640"/>
                      <a:tab algn="l" pos="6273720"/>
                      <a:tab algn="l" pos="7058160"/>
                      <a:tab algn="l" pos="7842240"/>
                      <a:tab algn="l" pos="8626320"/>
                      <a:tab algn="l" pos="9410760"/>
                      <a:tab algn="l" pos="101948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42"/>
                <p:cNvSpPr/>
                <p:nvPr/>
              </p:nvSpPr>
              <p:spPr>
                <a:xfrm flipH="1">
                  <a:off x="7473600" y="3966840"/>
                  <a:ext cx="205560" cy="2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43"/>
                <p:cNvSpPr/>
                <p:nvPr/>
              </p:nvSpPr>
              <p:spPr>
                <a:xfrm>
                  <a:off x="7839000" y="3966840"/>
                  <a:ext cx="229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Text Box 44"/>
              <p:cNvSpPr/>
              <p:nvPr/>
            </p:nvSpPr>
            <p:spPr>
              <a:xfrm>
                <a:off x="6124320" y="3715920"/>
                <a:ext cx="531360" cy="32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480" rIns="78480" tIns="39240" bIns="3924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784080"/>
                    <a:tab algn="l" pos="1568520"/>
                    <a:tab algn="l" pos="2352600"/>
                    <a:tab algn="l" pos="3137040"/>
                    <a:tab algn="l" pos="3921120"/>
                    <a:tab algn="l" pos="4705200"/>
                    <a:tab algn="l" pos="5489640"/>
                    <a:tab algn="l" pos="6273720"/>
                    <a:tab algn="l" pos="7058160"/>
                    <a:tab algn="l" pos="7842240"/>
                    <a:tab algn="l" pos="8626320"/>
                    <a:tab algn="l" pos="9410760"/>
                    <a:tab algn="l" pos="101948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45"/>
              <p:cNvSpPr/>
              <p:nvPr/>
            </p:nvSpPr>
            <p:spPr>
              <a:xfrm>
                <a:off x="7369920" y="4134960"/>
                <a:ext cx="842760" cy="32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480" rIns="78480" tIns="39240" bIns="3924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784080"/>
                    <a:tab algn="l" pos="1568520"/>
                    <a:tab algn="l" pos="2352600"/>
                    <a:tab algn="l" pos="3137040"/>
                    <a:tab algn="l" pos="3921120"/>
                    <a:tab algn="l" pos="4705200"/>
                    <a:tab algn="l" pos="5489640"/>
                    <a:tab algn="l" pos="6273720"/>
                    <a:tab algn="l" pos="7058160"/>
                    <a:tab algn="l" pos="7842240"/>
                    <a:tab algn="l" pos="8626320"/>
                    <a:tab algn="l" pos="9410760"/>
                    <a:tab algn="l" pos="101948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G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46"/>
              <p:cNvSpPr/>
              <p:nvPr/>
            </p:nvSpPr>
            <p:spPr>
              <a:xfrm>
                <a:off x="7369920" y="5002200"/>
                <a:ext cx="842760" cy="32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8480" rIns="78480" tIns="39240" bIns="3924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784080"/>
                    <a:tab algn="l" pos="1568520"/>
                    <a:tab algn="l" pos="2352600"/>
                    <a:tab algn="l" pos="3137040"/>
                    <a:tab algn="l" pos="3921120"/>
                    <a:tab algn="l" pos="4705200"/>
                    <a:tab algn="l" pos="5489640"/>
                    <a:tab algn="l" pos="6273720"/>
                    <a:tab algn="l" pos="7058160"/>
                    <a:tab algn="l" pos="7842240"/>
                    <a:tab algn="l" pos="8626320"/>
                    <a:tab algn="l" pos="9410760"/>
                    <a:tab algn="l" pos="101948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"/>
                    <a:ea typeface="Times New Roman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Line 47"/>
            <p:cNvSpPr/>
            <p:nvPr/>
          </p:nvSpPr>
          <p:spPr>
            <a:xfrm>
              <a:off x="6482880" y="3961440"/>
              <a:ext cx="20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48"/>
            <p:cNvSpPr/>
            <p:nvPr/>
          </p:nvSpPr>
          <p:spPr>
            <a:xfrm flipH="1">
              <a:off x="6103080" y="3951000"/>
              <a:ext cx="18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49"/>
            <p:cNvSpPr/>
            <p:nvPr/>
          </p:nvSpPr>
          <p:spPr>
            <a:xfrm>
              <a:off x="7017840" y="6132240"/>
              <a:ext cx="0" cy="644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0"/>
            <p:cNvSpPr/>
            <p:nvPr/>
          </p:nvSpPr>
          <p:spPr>
            <a:xfrm>
              <a:off x="6905160" y="6553440"/>
              <a:ext cx="867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54"/>
          <p:cNvSpPr/>
          <p:nvPr/>
        </p:nvSpPr>
        <p:spPr>
          <a:xfrm>
            <a:off x="0" y="212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"/>
              <p:cNvSpPr txBox="1"/>
              <p:nvPr/>
            </p:nvSpPr>
            <p:spPr>
              <a:xfrm>
                <a:off x="685800" y="1584360"/>
                <a:ext cx="9810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Rectangle 55"/>
          <p:cNvSpPr/>
          <p:nvPr/>
        </p:nvSpPr>
        <p:spPr>
          <a:xfrm>
            <a:off x="1523880" y="1522440"/>
            <a:ext cx="34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specimen stiff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6"/>
          <p:cNvSpPr/>
          <p:nvPr/>
        </p:nvSpPr>
        <p:spPr>
          <a:xfrm>
            <a:off x="685800" y="2877120"/>
            <a:ext cx="5637240" cy="28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compliance found by Shear-Lag analysis (verified as accurate by F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t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lve numerically for 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giv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5029200" y="5105520"/>
                <a:ext cx="27468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Rectangle 5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4"/>
              <p:cNvSpPr txBox="1"/>
              <p:nvPr/>
            </p:nvSpPr>
            <p:spPr>
              <a:xfrm>
                <a:off x="1052640" y="2119320"/>
                <a:ext cx="35082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L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E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 Unicode MS"/>
              </a:rPr>
              <a:t>Interfacial Slippage </a:t>
            </a:r>
            <a:endParaRPr b="0" lang="en-US" sz="4000" spc="-1" strike="noStrike">
              <a:solidFill>
                <a:srgbClr val="3333cc"/>
              </a:solidFill>
              <a:latin typeface="Arial Unicode MS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96960" y="1712880"/>
            <a:ext cx="2819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ver 1000 tensile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ver 700 individual specimens of normal and V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ver 230 DLS specimens were prepared and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2"/>
          <a:stretch/>
        </p:blipFill>
        <p:spPr>
          <a:xfrm>
            <a:off x="3294000" y="1150920"/>
            <a:ext cx="5850000" cy="51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20:43:32Z</dcterms:created>
  <dc:creator>Tom McLain</dc:creator>
  <dc:description/>
  <dc:language>en-US</dc:language>
  <cp:lastModifiedBy>John Nairn</cp:lastModifiedBy>
  <dcterms:modified xsi:type="dcterms:W3CDTF">2009-04-09T23:51:22Z</dcterms:modified>
  <cp:revision>176</cp:revision>
  <dc:subject/>
  <dc:title>Slide 1</dc:title>
</cp:coreProperties>
</file>