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3B85-A363-4F29-B8B1-871A995D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3822-80FA-430E-9687-B7D7D78B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4FD-4042-4EB4-AF72-8007551C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43C4-145F-4B6B-8677-B6B0562B6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960-D693-4FF0-80CE-908C1965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7D8D-654E-4CBB-BF1D-A36781A2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CE9F-B426-4D98-8E89-9034F6C4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5036-058D-4A83-B1D3-3159DBD4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6A92-C27F-43E2-B3FA-3CBFAFFF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CD5-DB0B-44C6-99DF-F7E15A45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939B-D4B3-4728-A81D-CCBE0DC1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69C-BB2D-4946-AA8B-E323F9E8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7F00-BAED-421D-9DCE-FFB83EEA9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Aspects of Cohesive Crack Modeling With MP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5200" y="2768760"/>
            <a:ext cx="88488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son Sanch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of New Mex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PM Work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14000" y="188640"/>
            <a:ext cx="801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 vs. Displacement: Cases 1 &amp;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19710" t="18272" r="22354" b="2989"/>
          <a:stretch/>
        </p:blipFill>
        <p:spPr>
          <a:xfrm>
            <a:off x="0" y="1639800"/>
            <a:ext cx="4414680" cy="434016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538280" y="121932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72040" y="1227240"/>
            <a:ext cx="22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rcRect l="18503" t="18194" r="22132" b="2394"/>
          <a:stretch/>
        </p:blipFill>
        <p:spPr>
          <a:xfrm>
            <a:off x="4626000" y="1606680"/>
            <a:ext cx="4518000" cy="43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A1A-7F03-4A14-A077-C3E1AE5527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rcRect l="7043" t="29997" r="7813" b="15680"/>
          <a:stretch/>
        </p:blipFill>
        <p:spPr>
          <a:xfrm>
            <a:off x="0" y="3060720"/>
            <a:ext cx="8296200" cy="37972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4000" y="188640"/>
            <a:ext cx="801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ergy Absorbed During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455760" y="826920"/>
                <a:ext cx="330984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τ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d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sub>
                                </m:sSub>
                              </m:e>
                            </m:d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343400" y="903240"/>
                <a:ext cx="45417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ack</m:t>
                        </m:r>
                      </m:lim>
                    </m:limLow>
                    <m:r>
                      <m:t xml:space="preserve">+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fn</m:t>
                                </m:r>
                              </m:sub>
                            </m:sSub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no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a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racks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173320" y="2048040"/>
                <a:ext cx="497196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rPr>
                        <m:lit/>
                        <m:nor/>
                      </m:rPr>
                      <m:t xml:space="preserve">ende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o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ilu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170080" y="4243320"/>
                <a:ext cx="14731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t xml:space="preserve">dδ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 flipH="1">
            <a:off x="1277640" y="4978440"/>
            <a:ext cx="1189080" cy="11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C88-91F1-4660-8677-B685275EC9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74640" y="174240"/>
            <a:ext cx="5824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861840" y="4562640"/>
          <a:ext cx="6976800" cy="2108160"/>
        </p:xfrm>
        <a:graphic>
          <a:graphicData uri="http://schemas.openxmlformats.org/drawingml/2006/table">
            <a:tbl>
              <a:tblPr/>
              <a:tblGrid>
                <a:gridCol w="855720"/>
                <a:gridCol w="1157040"/>
                <a:gridCol w="1522440"/>
                <a:gridCol w="1584360"/>
                <a:gridCol w="1857240"/>
              </a:tblGrid>
              <a:tr h="95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(c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(b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d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(b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/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om dominant cr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E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rom non-dominant c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"/>
          <p:cNvSpPr/>
          <p:nvPr/>
        </p:nvSpPr>
        <p:spPr>
          <a:xfrm>
            <a:off x="260280" y="857160"/>
            <a:ext cx="8659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ize effect for c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" y="2708280"/>
            <a:ext cx="735336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effect for c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1254240" y="3348000"/>
                <a:ext cx="253188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  <m:r>
                      <m:t xml:space="preserve">&gt;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3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008080" y="1389240"/>
                <a:ext cx="43196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ea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ilu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481640" y="3311640"/>
                <a:ext cx="3413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d</m:t>
                            </m:r>
                          </m:e>
                        </m:d>
                      </m:den>
                    </m:f>
                    <m:r>
                      <m:t xml:space="preserve">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ear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ilur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123-0348-40E6-84FE-46086CD6DA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99600" y="247320"/>
            <a:ext cx="81774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 &amp; 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1840" y="1073160"/>
            <a:ext cx="8659800" cy="50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f modified MSCM results in a simulated size effect trend (preliminary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idation with fracture energy size effect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ffect of shape of softening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icit calculation of G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performance of smeared crack model in M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 locking, mesh orientation bias of results, smearing over grid element vs. material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in more complex problems like sea ice dynamics (Sulsky et al.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7844-71F0-4518-82B1-A4EFC3B452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42800" y="7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Sulsky, S. Zhou, and H.L. Schreyer (1995) , Application of a particle-in-cell method to solid mechanic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Comput. Phy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236-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Sulsky and H.L. Schreyer (2004) , MPM simulation of dynamic material failure with a decohesion constitutive model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European Journal of Mechanics A/Soli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423-4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Sulsky, Z. Chen, and H.L. Schreyer (1994) , A particle method for history-dependent materials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Comput. Methods Appl. Mech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79-19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 Sulsky and H. L. Schreyer, Axisymmetric Form of the Material Point Method with Applications to Upsetting and Taylor Impact Problem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omput. Meths. Appld. Mechs. Engrg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9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1996) 409-42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.H. Whittmann, H. Mihashi, and N. Nomura (1990) , Size effect on fracture energy of concrete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ngineering Fracture Mechan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07-1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. Hillerborg, M. Modeer, and P.E. Petersson (1976) , Analysis of crack formation and crack growth in concrete by means of fracture mechanics and finite element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ement and Concrete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773-78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ots, J.G. (1988), Smeared Computational modeling of concrete fracture, Dissertation, Delft University of Technology, Delft, The Netherlan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.L. Schreyer (2007) . Modeling surface orientation and stress at failure of concrete and geological material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ournal For Numerical And Analytical Methods In Geomechanics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44-1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.L. Schreyer, D.L. Sulsky, L.B. Munday, M.D. Coon, and R. Kwok (2006), Elastic-Decohesive constitutive model for sea ice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. Geophys. 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.L. Sulsky, H.L. Schreyer, K.Peterson, M.D. Coon, and R. Kwok (2007), Using the material-point method to model sea ice dynamics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. Geophys. R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0190-E930-44FE-9AEB-E0424CC88A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acture Energy: Ide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3320" y="946080"/>
            <a:ext cx="817092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cture Energy =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amount of energy dissipated per unit crack area form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y material property in discrete constitutive models of fracture (Hillerborg et al. 19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ized measurement of fracture over an isolated representative volume of inhomogeneous material (concr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548280" y="2976480"/>
            <a:ext cx="8439840" cy="4045680"/>
            <a:chOff x="548280" y="2976480"/>
            <a:chExt cx="8439840" cy="4045680"/>
          </a:xfrm>
        </p:grpSpPr>
        <p:sp>
          <p:nvSpPr>
            <p:cNvPr id="46" name=""/>
            <p:cNvSpPr/>
            <p:nvPr/>
          </p:nvSpPr>
          <p:spPr>
            <a:xfrm>
              <a:off x="3602160" y="4762080"/>
              <a:ext cx="717840" cy="438120"/>
            </a:xfrm>
            <a:prstGeom prst="rightArrow">
              <a:avLst>
                <a:gd name="adj1" fmla="val 50000"/>
                <a:gd name="adj2" fmla="val 40961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06440" y="2976480"/>
              <a:ext cx="43488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4230000" y="3436920"/>
              <a:ext cx="4758120" cy="3202560"/>
              <a:chOff x="4230000" y="3436920"/>
              <a:chExt cx="4758120" cy="3202560"/>
            </a:xfrm>
          </p:grpSpPr>
          <p:sp>
            <p:nvSpPr>
              <p:cNvPr id="49" name=""/>
              <p:cNvSpPr/>
              <p:nvPr/>
            </p:nvSpPr>
            <p:spPr>
              <a:xfrm>
                <a:off x="4429800" y="3826800"/>
                <a:ext cx="0" cy="260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447800" y="6428520"/>
                <a:ext cx="4059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4429800" y="4587840"/>
                <a:ext cx="290880" cy="18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722120" y="3872880"/>
                <a:ext cx="3563640" cy="2490120"/>
              </a:xfrm>
              <a:custGeom>
                <a:avLst/>
                <a:gdLst/>
                <a:ahLst/>
                <a:rect l="l" t="t" r="r" b="b"/>
                <a:pathLst>
                  <a:path w="1910" h="1137">
                    <a:moveTo>
                      <a:pt x="0" y="344"/>
                    </a:moveTo>
                    <a:cubicBezTo>
                      <a:pt x="32" y="172"/>
                      <a:pt x="65" y="0"/>
                      <a:pt x="109" y="34"/>
                    </a:cubicBezTo>
                    <a:cubicBezTo>
                      <a:pt x="153" y="68"/>
                      <a:pt x="216" y="418"/>
                      <a:pt x="265" y="546"/>
                    </a:cubicBezTo>
                    <a:cubicBezTo>
                      <a:pt x="314" y="674"/>
                      <a:pt x="331" y="720"/>
                      <a:pt x="402" y="802"/>
                    </a:cubicBezTo>
                    <a:cubicBezTo>
                      <a:pt x="473" y="884"/>
                      <a:pt x="568" y="986"/>
                      <a:pt x="694" y="1039"/>
                    </a:cubicBezTo>
                    <a:cubicBezTo>
                      <a:pt x="820" y="1092"/>
                      <a:pt x="958" y="1107"/>
                      <a:pt x="1161" y="1122"/>
                    </a:cubicBezTo>
                    <a:cubicBezTo>
                      <a:pt x="1364" y="1137"/>
                      <a:pt x="1637" y="1134"/>
                      <a:pt x="1910" y="1131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3" name=""/>
                  <p:cNvSpPr txBox="1"/>
                  <p:nvPr/>
                </p:nvSpPr>
                <p:spPr>
                  <a:xfrm>
                    <a:off x="4600800" y="5665320"/>
                    <a:ext cx="986040" cy="6829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r>
                          <m:t xml:space="preserve">L</m:t>
                        </m:r>
                        <m:nary>
                          <m:naryPr>
                            <m:chr m:val="∫"/>
                          </m:naryPr>
                          <m:sub/>
                          <m:sup/>
                          <m:e>
                            <m:r>
                              <m:t xml:space="preserve">σ</m:t>
                            </m:r>
                            <m:r>
                              <m:t xml:space="preserve"> </m:t>
                            </m:r>
                            <m:r>
                              <m:t xml:space="preserve">dε</m:t>
                            </m:r>
                          </m:e>
                        </m:nary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4" name=""/>
              <p:cNvSpPr/>
              <p:nvPr/>
            </p:nvSpPr>
            <p:spPr>
              <a:xfrm>
                <a:off x="4230000" y="3436920"/>
                <a:ext cx="420120" cy="42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455680" y="6163200"/>
                <a:ext cx="532440" cy="47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2136960" y="6602040"/>
              <a:ext cx="433440" cy="42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48280" y="3397320"/>
              <a:ext cx="2893320" cy="3301920"/>
              <a:chOff x="548280" y="3397320"/>
              <a:chExt cx="2893320" cy="3301920"/>
            </a:xfrm>
          </p:grpSpPr>
          <p:sp>
            <p:nvSpPr>
              <p:cNvPr id="58" name=""/>
              <p:cNvSpPr/>
              <p:nvPr/>
            </p:nvSpPr>
            <p:spPr>
              <a:xfrm>
                <a:off x="1223280" y="3927960"/>
                <a:ext cx="2189520" cy="22330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15400" y="4783320"/>
                <a:ext cx="658080" cy="616680"/>
              </a:xfrm>
              <a:custGeom>
                <a:avLst/>
                <a:gdLst/>
                <a:ahLst/>
                <a:rect l="l" t="t" r="r" b="b"/>
                <a:pathLst>
                  <a:path w="795" h="795">
                    <a:moveTo>
                      <a:pt x="195" y="0"/>
                    </a:moveTo>
                    <a:lnTo>
                      <a:pt x="0" y="240"/>
                    </a:lnTo>
                    <a:lnTo>
                      <a:pt x="60" y="615"/>
                    </a:lnTo>
                    <a:lnTo>
                      <a:pt x="705" y="795"/>
                    </a:lnTo>
                    <a:lnTo>
                      <a:pt x="795" y="390"/>
                    </a:lnTo>
                    <a:lnTo>
                      <a:pt x="615" y="150"/>
                    </a:lnTo>
                    <a:lnTo>
                      <a:pt x="1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15320" y="4161960"/>
                <a:ext cx="476280" cy="617760"/>
              </a:xfrm>
              <a:custGeom>
                <a:avLst/>
                <a:gdLst/>
                <a:ahLst/>
                <a:rect l="l" t="t" r="r" b="b"/>
                <a:pathLst>
                  <a:path w="510" h="660">
                    <a:moveTo>
                      <a:pt x="0" y="0"/>
                    </a:moveTo>
                    <a:lnTo>
                      <a:pt x="420" y="105"/>
                    </a:lnTo>
                    <a:lnTo>
                      <a:pt x="510" y="285"/>
                    </a:lnTo>
                    <a:lnTo>
                      <a:pt x="360" y="660"/>
                    </a:lnTo>
                    <a:lnTo>
                      <a:pt x="15" y="30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489680" y="4125600"/>
                <a:ext cx="434880" cy="308880"/>
              </a:xfrm>
              <a:custGeom>
                <a:avLst/>
                <a:gdLst/>
                <a:ahLst/>
                <a:rect l="l" t="t" r="r" b="b"/>
                <a:pathLst>
                  <a:path w="465" h="330">
                    <a:moveTo>
                      <a:pt x="0" y="330"/>
                    </a:moveTo>
                    <a:lnTo>
                      <a:pt x="405" y="330"/>
                    </a:lnTo>
                    <a:lnTo>
                      <a:pt x="465" y="180"/>
                    </a:lnTo>
                    <a:lnTo>
                      <a:pt x="240" y="0"/>
                    </a:lnTo>
                    <a:lnTo>
                      <a:pt x="120" y="105"/>
                    </a:lnTo>
                    <a:lnTo>
                      <a:pt x="0" y="33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318760" y="5526000"/>
                <a:ext cx="940320" cy="548280"/>
              </a:xfrm>
              <a:custGeom>
                <a:avLst/>
                <a:gdLst/>
                <a:ahLst/>
                <a:rect l="l" t="t" r="r" b="b"/>
                <a:pathLst>
                  <a:path w="1005" h="585">
                    <a:moveTo>
                      <a:pt x="0" y="285"/>
                    </a:moveTo>
                    <a:lnTo>
                      <a:pt x="345" y="585"/>
                    </a:lnTo>
                    <a:lnTo>
                      <a:pt x="930" y="540"/>
                    </a:lnTo>
                    <a:lnTo>
                      <a:pt x="1005" y="135"/>
                    </a:lnTo>
                    <a:lnTo>
                      <a:pt x="780" y="15"/>
                    </a:lnTo>
                    <a:lnTo>
                      <a:pt x="330" y="0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19840" y="5481360"/>
                <a:ext cx="363600" cy="336600"/>
              </a:xfrm>
              <a:custGeom>
                <a:avLst/>
                <a:gdLst/>
                <a:ahLst/>
                <a:rect l="l" t="t" r="r" b="b"/>
                <a:pathLst>
                  <a:path w="390" h="360">
                    <a:moveTo>
                      <a:pt x="120" y="0"/>
                    </a:moveTo>
                    <a:lnTo>
                      <a:pt x="390" y="75"/>
                    </a:lnTo>
                    <a:lnTo>
                      <a:pt x="360" y="360"/>
                    </a:lnTo>
                    <a:lnTo>
                      <a:pt x="60" y="330"/>
                    </a:lnTo>
                    <a:lnTo>
                      <a:pt x="0" y="45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796480" y="4966560"/>
                <a:ext cx="392040" cy="308880"/>
              </a:xfrm>
              <a:custGeom>
                <a:avLst/>
                <a:gdLst/>
                <a:ahLst/>
                <a:rect l="l" t="t" r="r" b="b"/>
                <a:pathLst>
                  <a:path w="420" h="330">
                    <a:moveTo>
                      <a:pt x="0" y="15"/>
                    </a:moveTo>
                    <a:lnTo>
                      <a:pt x="330" y="0"/>
                    </a:lnTo>
                    <a:lnTo>
                      <a:pt x="420" y="330"/>
                    </a:lnTo>
                    <a:lnTo>
                      <a:pt x="0" y="12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37680" y="4677840"/>
                <a:ext cx="2189880" cy="399600"/>
              </a:xfrm>
              <a:custGeom>
                <a:avLst/>
                <a:gdLst/>
                <a:ahLst/>
                <a:rect l="l" t="t" r="r" b="b"/>
                <a:pathLst>
                  <a:path w="2340" h="427">
                    <a:moveTo>
                      <a:pt x="0" y="427"/>
                    </a:moveTo>
                    <a:cubicBezTo>
                      <a:pt x="6" y="426"/>
                      <a:pt x="198" y="404"/>
                      <a:pt x="210" y="397"/>
                    </a:cubicBezTo>
                    <a:cubicBezTo>
                      <a:pt x="224" y="389"/>
                      <a:pt x="214" y="363"/>
                      <a:pt x="225" y="352"/>
                    </a:cubicBezTo>
                    <a:cubicBezTo>
                      <a:pt x="265" y="312"/>
                      <a:pt x="335" y="329"/>
                      <a:pt x="390" y="322"/>
                    </a:cubicBezTo>
                    <a:cubicBezTo>
                      <a:pt x="420" y="312"/>
                      <a:pt x="450" y="302"/>
                      <a:pt x="480" y="292"/>
                    </a:cubicBezTo>
                    <a:cubicBezTo>
                      <a:pt x="495" y="287"/>
                      <a:pt x="525" y="277"/>
                      <a:pt x="525" y="277"/>
                    </a:cubicBezTo>
                    <a:cubicBezTo>
                      <a:pt x="530" y="262"/>
                      <a:pt x="533" y="246"/>
                      <a:pt x="540" y="232"/>
                    </a:cubicBezTo>
                    <a:cubicBezTo>
                      <a:pt x="548" y="216"/>
                      <a:pt x="564" y="204"/>
                      <a:pt x="570" y="187"/>
                    </a:cubicBezTo>
                    <a:cubicBezTo>
                      <a:pt x="610" y="80"/>
                      <a:pt x="548" y="136"/>
                      <a:pt x="630" y="82"/>
                    </a:cubicBezTo>
                    <a:cubicBezTo>
                      <a:pt x="761" y="86"/>
                      <a:pt x="1065" y="0"/>
                      <a:pt x="1170" y="157"/>
                    </a:cubicBezTo>
                    <a:cubicBezTo>
                      <a:pt x="1175" y="177"/>
                      <a:pt x="1172" y="201"/>
                      <a:pt x="1185" y="217"/>
                    </a:cubicBezTo>
                    <a:cubicBezTo>
                      <a:pt x="1190" y="223"/>
                      <a:pt x="1278" y="244"/>
                      <a:pt x="1290" y="247"/>
                    </a:cubicBezTo>
                    <a:cubicBezTo>
                      <a:pt x="1317" y="329"/>
                      <a:pt x="1329" y="327"/>
                      <a:pt x="1410" y="307"/>
                    </a:cubicBezTo>
                    <a:cubicBezTo>
                      <a:pt x="1565" y="204"/>
                      <a:pt x="1604" y="217"/>
                      <a:pt x="1815" y="202"/>
                    </a:cubicBezTo>
                    <a:cubicBezTo>
                      <a:pt x="1911" y="214"/>
                      <a:pt x="2005" y="228"/>
                      <a:pt x="2100" y="247"/>
                    </a:cubicBezTo>
                    <a:cubicBezTo>
                      <a:pt x="2151" y="323"/>
                      <a:pt x="2103" y="271"/>
                      <a:pt x="2175" y="307"/>
                    </a:cubicBezTo>
                    <a:cubicBezTo>
                      <a:pt x="2279" y="359"/>
                      <a:pt x="2144" y="337"/>
                      <a:pt x="2340" y="337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236960" y="4530240"/>
                <a:ext cx="673920" cy="97560"/>
              </a:xfrm>
              <a:custGeom>
                <a:avLst/>
                <a:gdLst/>
                <a:ahLst/>
                <a:rect l="l" t="t" r="r" b="b"/>
                <a:pathLst>
                  <a:path w="720" h="105">
                    <a:moveTo>
                      <a:pt x="0" y="0"/>
                    </a:moveTo>
                    <a:cubicBezTo>
                      <a:pt x="120" y="40"/>
                      <a:pt x="266" y="36"/>
                      <a:pt x="390" y="45"/>
                    </a:cubicBezTo>
                    <a:cubicBezTo>
                      <a:pt x="460" y="92"/>
                      <a:pt x="537" y="79"/>
                      <a:pt x="615" y="105"/>
                    </a:cubicBezTo>
                    <a:cubicBezTo>
                      <a:pt x="690" y="86"/>
                      <a:pt x="654" y="90"/>
                      <a:pt x="720" y="9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599560" y="5302440"/>
                <a:ext cx="798480" cy="405720"/>
              </a:xfrm>
              <a:custGeom>
                <a:avLst/>
                <a:gdLst/>
                <a:ahLst/>
                <a:rect l="l" t="t" r="r" b="b"/>
                <a:pathLst>
                  <a:path w="855" h="435">
                    <a:moveTo>
                      <a:pt x="0" y="0"/>
                    </a:moveTo>
                    <a:cubicBezTo>
                      <a:pt x="65" y="22"/>
                      <a:pt x="130" y="38"/>
                      <a:pt x="195" y="60"/>
                    </a:cubicBezTo>
                    <a:cubicBezTo>
                      <a:pt x="200" y="75"/>
                      <a:pt x="197" y="96"/>
                      <a:pt x="210" y="105"/>
                    </a:cubicBezTo>
                    <a:cubicBezTo>
                      <a:pt x="285" y="158"/>
                      <a:pt x="493" y="157"/>
                      <a:pt x="570" y="165"/>
                    </a:cubicBezTo>
                    <a:cubicBezTo>
                      <a:pt x="604" y="267"/>
                      <a:pt x="688" y="264"/>
                      <a:pt x="765" y="315"/>
                    </a:cubicBezTo>
                    <a:cubicBezTo>
                      <a:pt x="782" y="366"/>
                      <a:pt x="784" y="435"/>
                      <a:pt x="855" y="43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615320" y="5837400"/>
                <a:ext cx="645840" cy="125640"/>
              </a:xfrm>
              <a:custGeom>
                <a:avLst/>
                <a:gdLst/>
                <a:ahLst/>
                <a:rect l="l" t="t" r="r" b="b"/>
                <a:pathLst>
                  <a:path w="690" h="134">
                    <a:moveTo>
                      <a:pt x="0" y="65"/>
                    </a:moveTo>
                    <a:cubicBezTo>
                      <a:pt x="65" y="70"/>
                      <a:pt x="132" y="62"/>
                      <a:pt x="195" y="80"/>
                    </a:cubicBezTo>
                    <a:cubicBezTo>
                      <a:pt x="210" y="84"/>
                      <a:pt x="194" y="123"/>
                      <a:pt x="210" y="125"/>
                    </a:cubicBezTo>
                    <a:cubicBezTo>
                      <a:pt x="305" y="134"/>
                      <a:pt x="400" y="115"/>
                      <a:pt x="495" y="110"/>
                    </a:cubicBezTo>
                    <a:cubicBezTo>
                      <a:pt x="510" y="100"/>
                      <a:pt x="529" y="94"/>
                      <a:pt x="540" y="80"/>
                    </a:cubicBezTo>
                    <a:cubicBezTo>
                      <a:pt x="550" y="68"/>
                      <a:pt x="542" y="44"/>
                      <a:pt x="555" y="35"/>
                    </a:cubicBezTo>
                    <a:cubicBezTo>
                      <a:pt x="604" y="0"/>
                      <a:pt x="640" y="5"/>
                      <a:pt x="690" y="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835640" y="4062600"/>
                <a:ext cx="987480" cy="267480"/>
              </a:xfrm>
              <a:custGeom>
                <a:avLst/>
                <a:gdLst/>
                <a:ahLst/>
                <a:rect l="l" t="t" r="r" b="b"/>
                <a:pathLst>
                  <a:path w="1055" h="285">
                    <a:moveTo>
                      <a:pt x="5" y="24"/>
                    </a:moveTo>
                    <a:cubicBezTo>
                      <a:pt x="30" y="100"/>
                      <a:pt x="0" y="48"/>
                      <a:pt x="65" y="84"/>
                    </a:cubicBezTo>
                    <a:cubicBezTo>
                      <a:pt x="211" y="165"/>
                      <a:pt x="98" y="130"/>
                      <a:pt x="215" y="159"/>
                    </a:cubicBezTo>
                    <a:cubicBezTo>
                      <a:pt x="299" y="285"/>
                      <a:pt x="271" y="271"/>
                      <a:pt x="575" y="189"/>
                    </a:cubicBezTo>
                    <a:cubicBezTo>
                      <a:pt x="610" y="180"/>
                      <a:pt x="600" y="108"/>
                      <a:pt x="635" y="99"/>
                    </a:cubicBezTo>
                    <a:cubicBezTo>
                      <a:pt x="710" y="80"/>
                      <a:pt x="787" y="63"/>
                      <a:pt x="860" y="39"/>
                    </a:cubicBezTo>
                    <a:cubicBezTo>
                      <a:pt x="1051" y="55"/>
                      <a:pt x="1013" y="0"/>
                      <a:pt x="1055" y="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10800000">
                <a:off x="1249920" y="3397320"/>
                <a:ext cx="168120" cy="50436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0800000">
                <a:off x="1614960" y="3397680"/>
                <a:ext cx="168120" cy="505440"/>
              </a:xfrm>
              <a:prstGeom prst="downArrow">
                <a:avLst>
                  <a:gd name="adj1" fmla="val 50000"/>
                  <a:gd name="adj2" fmla="val 751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0800000">
                <a:off x="1952280" y="3397680"/>
                <a:ext cx="168120" cy="505440"/>
              </a:xfrm>
              <a:prstGeom prst="downArrow">
                <a:avLst>
                  <a:gd name="adj1" fmla="val 50000"/>
                  <a:gd name="adj2" fmla="val 751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0800000">
                <a:off x="2304000" y="3411000"/>
                <a:ext cx="168480" cy="50544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0800000">
                <a:off x="2612880" y="3411000"/>
                <a:ext cx="168120" cy="505440"/>
              </a:xfrm>
              <a:prstGeom prst="downArrow">
                <a:avLst>
                  <a:gd name="adj1" fmla="val 50000"/>
                  <a:gd name="adj2" fmla="val 751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0800000">
                <a:off x="2907000" y="3397680"/>
                <a:ext cx="169560" cy="505440"/>
              </a:xfrm>
              <a:prstGeom prst="downArrow">
                <a:avLst>
                  <a:gd name="adj1" fmla="val 50000"/>
                  <a:gd name="adj2" fmla="val 74522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0800000">
                <a:off x="3273480" y="3397680"/>
                <a:ext cx="168120" cy="505440"/>
              </a:xfrm>
              <a:prstGeom prst="downArrow">
                <a:avLst>
                  <a:gd name="adj1" fmla="val 50000"/>
                  <a:gd name="adj2" fmla="val 75161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1222200" y="6180120"/>
                <a:ext cx="168120" cy="504360"/>
              </a:xfrm>
              <a:prstGeom prst="downArrow">
                <a:avLst>
                  <a:gd name="adj1" fmla="val 50000"/>
                  <a:gd name="adj2" fmla="val 75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87240" y="6180120"/>
                <a:ext cx="168120" cy="505800"/>
              </a:xfrm>
              <a:prstGeom prst="downArrow">
                <a:avLst>
                  <a:gd name="adj1" fmla="val 50000"/>
                  <a:gd name="adj2" fmla="val 752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924560" y="6180120"/>
                <a:ext cx="168120" cy="505800"/>
              </a:xfrm>
              <a:prstGeom prst="downArrow">
                <a:avLst>
                  <a:gd name="adj1" fmla="val 50000"/>
                  <a:gd name="adj2" fmla="val 752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2275920" y="6193440"/>
                <a:ext cx="168120" cy="505800"/>
              </a:xfrm>
              <a:prstGeom prst="downArrow">
                <a:avLst>
                  <a:gd name="adj1" fmla="val 50000"/>
                  <a:gd name="adj2" fmla="val 752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2585160" y="6193440"/>
                <a:ext cx="168120" cy="505800"/>
              </a:xfrm>
              <a:prstGeom prst="downArrow">
                <a:avLst>
                  <a:gd name="adj1" fmla="val 50000"/>
                  <a:gd name="adj2" fmla="val 75214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879280" y="6180120"/>
                <a:ext cx="169560" cy="505800"/>
              </a:xfrm>
              <a:prstGeom prst="downArrow">
                <a:avLst>
                  <a:gd name="adj1" fmla="val 50000"/>
                  <a:gd name="adj2" fmla="val 74575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45400" y="6180120"/>
                <a:ext cx="168480" cy="505800"/>
              </a:xfrm>
              <a:prstGeom prst="downArrow">
                <a:avLst>
                  <a:gd name="adj1" fmla="val 50000"/>
                  <a:gd name="adj2" fmla="val 75053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660600" y="3934800"/>
                <a:ext cx="5616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5000" y="6154200"/>
                <a:ext cx="561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941400" y="3949200"/>
                <a:ext cx="0" cy="22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48280" y="4822560"/>
                <a:ext cx="604080" cy="506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8D2-4E3B-46E6-9B6B-81F31D5E0C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71240" y="201240"/>
            <a:ext cx="8475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ivation: Size Effect in Fracture Energy Measu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3680" y="945720"/>
            <a:ext cx="616752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d by work of fractur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effect observed in measured mode I G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oncrete (Whittmann et al., 1990) – complete development of fracture process zone is inhibited by 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984400" y="3290760"/>
            <a:ext cx="3900600" cy="2301840"/>
            <a:chOff x="2984400" y="3290760"/>
            <a:chExt cx="3900600" cy="2301840"/>
          </a:xfrm>
        </p:grpSpPr>
        <p:sp>
          <p:nvSpPr>
            <p:cNvPr id="91" name=""/>
            <p:cNvSpPr/>
            <p:nvPr/>
          </p:nvSpPr>
          <p:spPr>
            <a:xfrm>
              <a:off x="3116160" y="3602160"/>
              <a:ext cx="0" cy="18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0560" y="5487840"/>
              <a:ext cx="345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116160" y="4152600"/>
              <a:ext cx="246240" cy="13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63840" y="3635280"/>
              <a:ext cx="3032280" cy="1805040"/>
            </a:xfrm>
            <a:custGeom>
              <a:avLst/>
              <a:gdLst/>
              <a:ahLst/>
              <a:rect l="l" t="t" r="r" b="b"/>
              <a:pathLst>
                <a:path w="1910" h="1137">
                  <a:moveTo>
                    <a:pt x="0" y="344"/>
                  </a:moveTo>
                  <a:cubicBezTo>
                    <a:pt x="32" y="172"/>
                    <a:pt x="65" y="0"/>
                    <a:pt x="109" y="34"/>
                  </a:cubicBezTo>
                  <a:cubicBezTo>
                    <a:pt x="153" y="68"/>
                    <a:pt x="216" y="418"/>
                    <a:pt x="265" y="546"/>
                  </a:cubicBezTo>
                  <a:cubicBezTo>
                    <a:pt x="314" y="674"/>
                    <a:pt x="331" y="720"/>
                    <a:pt x="402" y="802"/>
                  </a:cubicBezTo>
                  <a:cubicBezTo>
                    <a:pt x="473" y="884"/>
                    <a:pt x="568" y="986"/>
                    <a:pt x="694" y="1039"/>
                  </a:cubicBezTo>
                  <a:cubicBezTo>
                    <a:pt x="820" y="1092"/>
                    <a:pt x="958" y="1107"/>
                    <a:pt x="1161" y="1122"/>
                  </a:cubicBezTo>
                  <a:cubicBezTo>
                    <a:pt x="1364" y="1137"/>
                    <a:pt x="1637" y="1134"/>
                    <a:pt x="1910" y="11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984400" y="3290760"/>
                  <a:ext cx="260280" cy="2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6646680" y="5289480"/>
                  <a:ext cx="238320" cy="303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4525920" y="3946680"/>
                  <a:ext cx="1378080" cy="69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bd</m:t>
                          </m:r>
                        </m:den>
                      </m:f>
                      <m:nary>
                        <m:naryPr>
                          <m:chr m:val="∫"/>
                        </m:naryPr>
                        <m:sub/>
                        <m:sup/>
                        <m:e>
                          <m:r>
                            <m:t xml:space="preserve">P</m:t>
                          </m:r>
                          <m:r>
                            <m:t xml:space="preserve"> </m:t>
                          </m:r>
                          <m:r>
                            <m:t xml:space="preserve">dδ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0" y="3144960"/>
            <a:ext cx="2830320" cy="2664000"/>
            <a:chOff x="0" y="3144960"/>
            <a:chExt cx="2830320" cy="2664000"/>
          </a:xfrm>
        </p:grpSpPr>
        <p:sp>
          <p:nvSpPr>
            <p:cNvPr id="99" name=""/>
            <p:cNvSpPr/>
            <p:nvPr/>
          </p:nvSpPr>
          <p:spPr>
            <a:xfrm>
              <a:off x="288720" y="3163680"/>
              <a:ext cx="2390760" cy="232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57280" y="3163680"/>
              <a:ext cx="52560" cy="139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57280" y="3144960"/>
              <a:ext cx="52560" cy="50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1480" y="3444840"/>
              <a:ext cx="120600" cy="13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031840" y="3438360"/>
              <a:ext cx="120600" cy="13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23480" y="3513240"/>
              <a:ext cx="647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82600" y="3508200"/>
              <a:ext cx="7369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70240" y="319248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2280" y="319248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074680" y="3542760"/>
              <a:ext cx="0" cy="26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2352600" y="3663720"/>
                  <a:ext cx="231840" cy="29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0" name=""/>
            <p:cNvSpPr/>
            <p:nvPr/>
          </p:nvSpPr>
          <p:spPr>
            <a:xfrm flipV="1">
              <a:off x="2087640" y="3688920"/>
              <a:ext cx="2761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0" y="5532480"/>
              <a:ext cx="2830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pact Tension Sample (CT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79600" y="4603680"/>
              <a:ext cx="0" cy="869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34960" y="4589280"/>
              <a:ext cx="8413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ominant crac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38280" y="455940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70120" y="4559400"/>
              <a:ext cx="0" cy="89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81280" y="4825800"/>
              <a:ext cx="2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60280" y="4849560"/>
              <a:ext cx="27648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1"/>
          <a:srcRect l="26471" t="12955" r="38235" b="58557"/>
          <a:stretch/>
        </p:blipFill>
        <p:spPr>
          <a:xfrm>
            <a:off x="6103800" y="1576440"/>
            <a:ext cx="3040200" cy="337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58CD-CA2D-498C-9CB1-D4BC0BDF30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400" y="1193760"/>
            <a:ext cx="8636040" cy="28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 measured size effec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a modified multiple smeared crack model (MSCM) in M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 performance of smeared crack model in MP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locking (observed in smeared crack analysis in F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orientation bias of results (observed in smeared crack analysis in F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4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othesis - allowing simultaneous development of multiple cracks over a representative volume and removing energy availability restrictions for failure will reflect a size effect with constan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54C8-9648-47A4-942C-4AC66DE622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47360" y="189000"/>
            <a:ext cx="78310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rete Constitutive Models of Fr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52320" y="2384280"/>
                <a:ext cx="52596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∀</m:t>
                        </m:r>
                        <m:r>
                          <m:t xml:space="preserve">n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σ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u</m:t>
                                </m:r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he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1254240"/>
            <a:ext cx="88977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ess and failure plane orientation predicted by de-cohes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788440" y="1697040"/>
            <a:ext cx="3138120" cy="2076480"/>
            <a:chOff x="5788440" y="1697040"/>
            <a:chExt cx="3138120" cy="2076480"/>
          </a:xfrm>
        </p:grpSpPr>
        <p:sp>
          <p:nvSpPr>
            <p:cNvPr id="125" name=""/>
            <p:cNvSpPr/>
            <p:nvPr/>
          </p:nvSpPr>
          <p:spPr>
            <a:xfrm>
              <a:off x="6066000" y="1981080"/>
              <a:ext cx="2041200" cy="179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96120" y="1996920"/>
              <a:ext cx="1179360" cy="174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261200" y="2827080"/>
              <a:ext cx="495360" cy="33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865920" y="2598840"/>
              <a:ext cx="393840" cy="56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7769160" y="2552760"/>
                  <a:ext cx="243000" cy="2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6781680" y="2306520"/>
                  <a:ext cx="193680" cy="3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7445520" y="2075040"/>
                  <a:ext cx="1481040" cy="43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τ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n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  <m:r>
                        <m:t xml:space="preserve">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 rot="3514200">
              <a:off x="6222960" y="2904480"/>
              <a:ext cx="133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rack 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251840" y="2338560"/>
              <a:ext cx="174600" cy="79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88440" y="1697040"/>
              <a:ext cx="2622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resentative material volu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72000" y="3875040"/>
            <a:ext cx="3176640" cy="2982960"/>
            <a:chOff x="5472000" y="3875040"/>
            <a:chExt cx="3176640" cy="2982960"/>
          </a:xfrm>
        </p:grpSpPr>
        <p:sp>
          <p:nvSpPr>
            <p:cNvPr id="136" name=""/>
            <p:cNvSpPr/>
            <p:nvPr/>
          </p:nvSpPr>
          <p:spPr>
            <a:xfrm>
              <a:off x="6022800" y="4329000"/>
              <a:ext cx="0" cy="20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05160" y="6389640"/>
              <a:ext cx="2206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"/>
                <p:cNvSpPr txBox="1"/>
                <p:nvPr/>
              </p:nvSpPr>
              <p:spPr>
                <a:xfrm>
                  <a:off x="5472000" y="4835520"/>
                  <a:ext cx="376200" cy="44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n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"/>
                <p:cNvSpPr txBox="1"/>
                <p:nvPr/>
              </p:nvSpPr>
              <p:spPr>
                <a:xfrm>
                  <a:off x="7621560" y="6469200"/>
                  <a:ext cx="431640" cy="38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6433920" y="5792760"/>
                  <a:ext cx="361800" cy="405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G</m:t>
                          </m:r>
                        </m:e>
                        <m:sub>
                          <m:r>
                            <m:t xml:space="preserve">f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6005160" y="5094360"/>
              <a:ext cx="1752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" name=""/>
                <p:cNvSpPr txBox="1"/>
                <p:nvPr/>
              </p:nvSpPr>
              <p:spPr>
                <a:xfrm>
                  <a:off x="5852880" y="3875040"/>
                  <a:ext cx="306360" cy="42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τ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"/>
                <p:cNvSpPr txBox="1"/>
                <p:nvPr/>
              </p:nvSpPr>
              <p:spPr>
                <a:xfrm>
                  <a:off x="8215200" y="6161040"/>
                  <a:ext cx="433440" cy="389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u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"/>
            <p:cNvSpPr/>
            <p:nvPr/>
          </p:nvSpPr>
          <p:spPr>
            <a:xfrm>
              <a:off x="5929200" y="50943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758000" y="6313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84880" y="4057560"/>
              <a:ext cx="207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action separation la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0" y="4559400"/>
            <a:ext cx="6053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fic discrete model is for geological materials (Schreyer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6756480" y="4629240"/>
                <a:ext cx="13492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73560"/>
            <a:ext cx="5502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tion separation law built into de-cohesion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423040"/>
            <a:ext cx="605304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 I fracture of interest: Rankin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6C7-95B5-4DF4-B778-7085D2D80D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5600" y="0"/>
            <a:ext cx="768492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 Smeared Crack Model (MSC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52200" y="641520"/>
            <a:ext cx="6364800" cy="3789720"/>
            <a:chOff x="952200" y="641520"/>
            <a:chExt cx="6364800" cy="3789720"/>
          </a:xfrm>
        </p:grpSpPr>
        <p:sp>
          <p:nvSpPr>
            <p:cNvPr id="153" name=""/>
            <p:cNvSpPr/>
            <p:nvPr/>
          </p:nvSpPr>
          <p:spPr>
            <a:xfrm>
              <a:off x="2391480" y="2571840"/>
              <a:ext cx="348552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meared crack idealization of crac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a representative volu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952200" y="1260720"/>
              <a:ext cx="6364800" cy="1281240"/>
              <a:chOff x="952200" y="1260720"/>
              <a:chExt cx="6364800" cy="128124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952200" y="1260720"/>
                <a:ext cx="1221480" cy="1236240"/>
                <a:chOff x="952200" y="1260720"/>
                <a:chExt cx="1221480" cy="12362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60120" y="1260720"/>
                  <a:ext cx="1205640" cy="123012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230840" y="1731600"/>
                  <a:ext cx="362880" cy="340200"/>
                </a:xfrm>
                <a:custGeom>
                  <a:avLst/>
                  <a:gdLst/>
                  <a:ahLst/>
                  <a:rect l="l" t="t" r="r" b="b"/>
                  <a:pathLst>
                    <a:path w="795" h="795">
                      <a:moveTo>
                        <a:pt x="195" y="0"/>
                      </a:moveTo>
                      <a:lnTo>
                        <a:pt x="0" y="240"/>
                      </a:lnTo>
                      <a:lnTo>
                        <a:pt x="60" y="615"/>
                      </a:lnTo>
                      <a:lnTo>
                        <a:pt x="705" y="795"/>
                      </a:lnTo>
                      <a:lnTo>
                        <a:pt x="795" y="390"/>
                      </a:lnTo>
                      <a:lnTo>
                        <a:pt x="615" y="15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671480" y="1389240"/>
                  <a:ext cx="262800" cy="340200"/>
                </a:xfrm>
                <a:custGeom>
                  <a:avLst/>
                  <a:gdLst/>
                  <a:ahLst/>
                  <a:rect l="l" t="t" r="r" b="b"/>
                  <a:pathLst>
                    <a:path w="510" h="660">
                      <a:moveTo>
                        <a:pt x="0" y="0"/>
                      </a:moveTo>
                      <a:lnTo>
                        <a:pt x="420" y="105"/>
                      </a:lnTo>
                      <a:lnTo>
                        <a:pt x="510" y="285"/>
                      </a:lnTo>
                      <a:lnTo>
                        <a:pt x="360" y="660"/>
                      </a:lnTo>
                      <a:lnTo>
                        <a:pt x="15" y="3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1106640" y="1369440"/>
                  <a:ext cx="239760" cy="169920"/>
                </a:xfrm>
                <a:custGeom>
                  <a:avLst/>
                  <a:gdLst/>
                  <a:ahLst/>
                  <a:rect l="l" t="t" r="r" b="b"/>
                  <a:pathLst>
                    <a:path w="465" h="330">
                      <a:moveTo>
                        <a:pt x="0" y="330"/>
                      </a:moveTo>
                      <a:lnTo>
                        <a:pt x="405" y="330"/>
                      </a:lnTo>
                      <a:lnTo>
                        <a:pt x="465" y="180"/>
                      </a:lnTo>
                      <a:lnTo>
                        <a:pt x="240" y="0"/>
                      </a:lnTo>
                      <a:lnTo>
                        <a:pt x="120" y="105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563120" y="2141280"/>
                  <a:ext cx="518040" cy="301680"/>
                </a:xfrm>
                <a:custGeom>
                  <a:avLst/>
                  <a:gdLst/>
                  <a:ahLst/>
                  <a:rect l="l" t="t" r="r" b="b"/>
                  <a:pathLst>
                    <a:path w="1005" h="585">
                      <a:moveTo>
                        <a:pt x="0" y="285"/>
                      </a:moveTo>
                      <a:lnTo>
                        <a:pt x="345" y="585"/>
                      </a:lnTo>
                      <a:lnTo>
                        <a:pt x="930" y="540"/>
                      </a:lnTo>
                      <a:lnTo>
                        <a:pt x="1005" y="135"/>
                      </a:lnTo>
                      <a:lnTo>
                        <a:pt x="780" y="15"/>
                      </a:lnTo>
                      <a:lnTo>
                        <a:pt x="330" y="0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068120" y="2116440"/>
                  <a:ext cx="200880" cy="185400"/>
                </a:xfrm>
                <a:custGeom>
                  <a:avLst/>
                  <a:gdLst/>
                  <a:ahLst/>
                  <a:rect l="l" t="t" r="r" b="b"/>
                  <a:pathLst>
                    <a:path w="390" h="360">
                      <a:moveTo>
                        <a:pt x="120" y="0"/>
                      </a:moveTo>
                      <a:lnTo>
                        <a:pt x="390" y="75"/>
                      </a:lnTo>
                      <a:lnTo>
                        <a:pt x="360" y="360"/>
                      </a:lnTo>
                      <a:lnTo>
                        <a:pt x="60" y="330"/>
                      </a:lnTo>
                      <a:lnTo>
                        <a:pt x="0" y="45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1825920" y="1833120"/>
                  <a:ext cx="216360" cy="169920"/>
                </a:xfrm>
                <a:custGeom>
                  <a:avLst/>
                  <a:gdLst/>
                  <a:ahLst/>
                  <a:rect l="l" t="t" r="r" b="b"/>
                  <a:pathLst>
                    <a:path w="420" h="330">
                      <a:moveTo>
                        <a:pt x="0" y="15"/>
                      </a:moveTo>
                      <a:lnTo>
                        <a:pt x="330" y="0"/>
                      </a:lnTo>
                      <a:lnTo>
                        <a:pt x="420" y="330"/>
                      </a:lnTo>
                      <a:lnTo>
                        <a:pt x="0" y="12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968040" y="1673280"/>
                  <a:ext cx="1205640" cy="220320"/>
                </a:xfrm>
                <a:custGeom>
                  <a:avLst/>
                  <a:gdLst/>
                  <a:ahLst/>
                  <a:rect l="l" t="t" r="r" b="b"/>
                  <a:pathLst>
                    <a:path w="2340" h="427">
                      <a:moveTo>
                        <a:pt x="0" y="427"/>
                      </a:moveTo>
                      <a:cubicBezTo>
                        <a:pt x="6" y="426"/>
                        <a:pt x="198" y="404"/>
                        <a:pt x="210" y="397"/>
                      </a:cubicBezTo>
                      <a:cubicBezTo>
                        <a:pt x="224" y="389"/>
                        <a:pt x="214" y="363"/>
                        <a:pt x="225" y="352"/>
                      </a:cubicBezTo>
                      <a:cubicBezTo>
                        <a:pt x="265" y="312"/>
                        <a:pt x="335" y="329"/>
                        <a:pt x="390" y="322"/>
                      </a:cubicBezTo>
                      <a:cubicBezTo>
                        <a:pt x="420" y="312"/>
                        <a:pt x="450" y="302"/>
                        <a:pt x="480" y="292"/>
                      </a:cubicBezTo>
                      <a:cubicBezTo>
                        <a:pt x="495" y="287"/>
                        <a:pt x="525" y="277"/>
                        <a:pt x="525" y="277"/>
                      </a:cubicBezTo>
                      <a:cubicBezTo>
                        <a:pt x="530" y="262"/>
                        <a:pt x="533" y="246"/>
                        <a:pt x="540" y="232"/>
                      </a:cubicBezTo>
                      <a:cubicBezTo>
                        <a:pt x="548" y="216"/>
                        <a:pt x="564" y="204"/>
                        <a:pt x="570" y="187"/>
                      </a:cubicBezTo>
                      <a:cubicBezTo>
                        <a:pt x="610" y="80"/>
                        <a:pt x="548" y="136"/>
                        <a:pt x="630" y="82"/>
                      </a:cubicBezTo>
                      <a:cubicBezTo>
                        <a:pt x="761" y="86"/>
                        <a:pt x="1065" y="0"/>
                        <a:pt x="1170" y="157"/>
                      </a:cubicBezTo>
                      <a:cubicBezTo>
                        <a:pt x="1175" y="177"/>
                        <a:pt x="1172" y="201"/>
                        <a:pt x="1185" y="217"/>
                      </a:cubicBezTo>
                      <a:cubicBezTo>
                        <a:pt x="1190" y="223"/>
                        <a:pt x="1278" y="244"/>
                        <a:pt x="1290" y="247"/>
                      </a:cubicBezTo>
                      <a:cubicBezTo>
                        <a:pt x="1317" y="329"/>
                        <a:pt x="1329" y="327"/>
                        <a:pt x="1410" y="307"/>
                      </a:cubicBezTo>
                      <a:cubicBezTo>
                        <a:pt x="1565" y="204"/>
                        <a:pt x="1604" y="217"/>
                        <a:pt x="1815" y="202"/>
                      </a:cubicBezTo>
                      <a:cubicBezTo>
                        <a:pt x="1911" y="214"/>
                        <a:pt x="2005" y="228"/>
                        <a:pt x="2100" y="247"/>
                      </a:cubicBezTo>
                      <a:cubicBezTo>
                        <a:pt x="2151" y="323"/>
                        <a:pt x="2103" y="271"/>
                        <a:pt x="2175" y="307"/>
                      </a:cubicBezTo>
                      <a:cubicBezTo>
                        <a:pt x="2279" y="359"/>
                        <a:pt x="2144" y="337"/>
                        <a:pt x="2340" y="33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423800" y="1274760"/>
                  <a:ext cx="223560" cy="1222200"/>
                </a:xfrm>
                <a:custGeom>
                  <a:avLst/>
                  <a:gdLst/>
                  <a:ahLst/>
                  <a:rect l="l" t="t" r="r" b="b"/>
                  <a:pathLst>
                    <a:path w="435" h="2370">
                      <a:moveTo>
                        <a:pt x="150" y="0"/>
                      </a:moveTo>
                      <a:cubicBezTo>
                        <a:pt x="161" y="128"/>
                        <a:pt x="201" y="293"/>
                        <a:pt x="165" y="420"/>
                      </a:cubicBezTo>
                      <a:cubicBezTo>
                        <a:pt x="161" y="435"/>
                        <a:pt x="135" y="430"/>
                        <a:pt x="120" y="435"/>
                      </a:cubicBezTo>
                      <a:cubicBezTo>
                        <a:pt x="92" y="520"/>
                        <a:pt x="125" y="607"/>
                        <a:pt x="150" y="690"/>
                      </a:cubicBezTo>
                      <a:cubicBezTo>
                        <a:pt x="159" y="720"/>
                        <a:pt x="170" y="750"/>
                        <a:pt x="180" y="780"/>
                      </a:cubicBezTo>
                      <a:cubicBezTo>
                        <a:pt x="185" y="795"/>
                        <a:pt x="195" y="825"/>
                        <a:pt x="195" y="825"/>
                      </a:cubicBezTo>
                      <a:cubicBezTo>
                        <a:pt x="208" y="919"/>
                        <a:pt x="200" y="1002"/>
                        <a:pt x="300" y="1035"/>
                      </a:cubicBezTo>
                      <a:cubicBezTo>
                        <a:pt x="337" y="1090"/>
                        <a:pt x="338" y="1145"/>
                        <a:pt x="375" y="1200"/>
                      </a:cubicBezTo>
                      <a:cubicBezTo>
                        <a:pt x="353" y="1621"/>
                        <a:pt x="435" y="1410"/>
                        <a:pt x="255" y="1530"/>
                      </a:cubicBezTo>
                      <a:cubicBezTo>
                        <a:pt x="260" y="1555"/>
                        <a:pt x="264" y="1580"/>
                        <a:pt x="270" y="1605"/>
                      </a:cubicBezTo>
                      <a:cubicBezTo>
                        <a:pt x="274" y="1620"/>
                        <a:pt x="285" y="1634"/>
                        <a:pt x="285" y="1650"/>
                      </a:cubicBezTo>
                      <a:cubicBezTo>
                        <a:pt x="285" y="1673"/>
                        <a:pt x="242" y="1795"/>
                        <a:pt x="240" y="1800"/>
                      </a:cubicBezTo>
                      <a:cubicBezTo>
                        <a:pt x="232" y="1824"/>
                        <a:pt x="239" y="1854"/>
                        <a:pt x="225" y="1875"/>
                      </a:cubicBezTo>
                      <a:cubicBezTo>
                        <a:pt x="216" y="1888"/>
                        <a:pt x="195" y="1885"/>
                        <a:pt x="180" y="1890"/>
                      </a:cubicBezTo>
                      <a:cubicBezTo>
                        <a:pt x="175" y="1920"/>
                        <a:pt x="180" y="1954"/>
                        <a:pt x="165" y="1980"/>
                      </a:cubicBezTo>
                      <a:cubicBezTo>
                        <a:pt x="157" y="1994"/>
                        <a:pt x="131" y="1984"/>
                        <a:pt x="120" y="1995"/>
                      </a:cubicBezTo>
                      <a:cubicBezTo>
                        <a:pt x="95" y="2020"/>
                        <a:pt x="60" y="2085"/>
                        <a:pt x="60" y="2085"/>
                      </a:cubicBezTo>
                      <a:cubicBezTo>
                        <a:pt x="55" y="2120"/>
                        <a:pt x="53" y="2156"/>
                        <a:pt x="45" y="2190"/>
                      </a:cubicBezTo>
                      <a:cubicBezTo>
                        <a:pt x="29" y="2260"/>
                        <a:pt x="0" y="2301"/>
                        <a:pt x="0" y="237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967320" y="1592280"/>
                  <a:ext cx="370800" cy="53640"/>
                </a:xfrm>
                <a:custGeom>
                  <a:avLst/>
                  <a:gdLst/>
                  <a:ahLst/>
                  <a:rect l="l" t="t" r="r" b="b"/>
                  <a:pathLst>
                    <a:path w="720" h="105">
                      <a:moveTo>
                        <a:pt x="0" y="0"/>
                      </a:moveTo>
                      <a:cubicBezTo>
                        <a:pt x="120" y="40"/>
                        <a:pt x="266" y="36"/>
                        <a:pt x="390" y="45"/>
                      </a:cubicBezTo>
                      <a:cubicBezTo>
                        <a:pt x="460" y="92"/>
                        <a:pt x="537" y="79"/>
                        <a:pt x="615" y="105"/>
                      </a:cubicBezTo>
                      <a:cubicBezTo>
                        <a:pt x="690" y="86"/>
                        <a:pt x="654" y="90"/>
                        <a:pt x="720" y="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952200" y="2001960"/>
                  <a:ext cx="518040" cy="293760"/>
                </a:xfrm>
                <a:custGeom>
                  <a:avLst/>
                  <a:gdLst/>
                  <a:ahLst/>
                  <a:rect l="l" t="t" r="r" b="b"/>
                  <a:pathLst>
                    <a:path w="1005" h="570">
                      <a:moveTo>
                        <a:pt x="1005" y="570"/>
                      </a:moveTo>
                      <a:cubicBezTo>
                        <a:pt x="977" y="542"/>
                        <a:pt x="943" y="523"/>
                        <a:pt x="915" y="495"/>
                      </a:cubicBezTo>
                      <a:cubicBezTo>
                        <a:pt x="902" y="482"/>
                        <a:pt x="899" y="462"/>
                        <a:pt x="885" y="450"/>
                      </a:cubicBezTo>
                      <a:cubicBezTo>
                        <a:pt x="858" y="426"/>
                        <a:pt x="825" y="410"/>
                        <a:pt x="795" y="390"/>
                      </a:cubicBezTo>
                      <a:cubicBezTo>
                        <a:pt x="682" y="315"/>
                        <a:pt x="809" y="377"/>
                        <a:pt x="720" y="300"/>
                      </a:cubicBezTo>
                      <a:cubicBezTo>
                        <a:pt x="693" y="276"/>
                        <a:pt x="660" y="260"/>
                        <a:pt x="630" y="240"/>
                      </a:cubicBezTo>
                      <a:cubicBezTo>
                        <a:pt x="609" y="226"/>
                        <a:pt x="603" y="198"/>
                        <a:pt x="585" y="180"/>
                      </a:cubicBezTo>
                      <a:cubicBezTo>
                        <a:pt x="572" y="167"/>
                        <a:pt x="554" y="162"/>
                        <a:pt x="540" y="150"/>
                      </a:cubicBezTo>
                      <a:cubicBezTo>
                        <a:pt x="524" y="136"/>
                        <a:pt x="513" y="116"/>
                        <a:pt x="495" y="105"/>
                      </a:cubicBezTo>
                      <a:cubicBezTo>
                        <a:pt x="472" y="91"/>
                        <a:pt x="444" y="87"/>
                        <a:pt x="420" y="75"/>
                      </a:cubicBezTo>
                      <a:cubicBezTo>
                        <a:pt x="404" y="67"/>
                        <a:pt x="390" y="55"/>
                        <a:pt x="375" y="45"/>
                      </a:cubicBezTo>
                      <a:cubicBezTo>
                        <a:pt x="264" y="73"/>
                        <a:pt x="283" y="77"/>
                        <a:pt x="150" y="60"/>
                      </a:cubicBezTo>
                      <a:cubicBezTo>
                        <a:pt x="95" y="5"/>
                        <a:pt x="77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717560" y="2017440"/>
                  <a:ext cx="440280" cy="223920"/>
                </a:xfrm>
                <a:custGeom>
                  <a:avLst/>
                  <a:gdLst/>
                  <a:ahLst/>
                  <a:rect l="l" t="t" r="r" b="b"/>
                  <a:pathLst>
                    <a:path w="855" h="435">
                      <a:moveTo>
                        <a:pt x="0" y="0"/>
                      </a:moveTo>
                      <a:cubicBezTo>
                        <a:pt x="65" y="22"/>
                        <a:pt x="130" y="38"/>
                        <a:pt x="195" y="60"/>
                      </a:cubicBezTo>
                      <a:cubicBezTo>
                        <a:pt x="200" y="75"/>
                        <a:pt x="197" y="96"/>
                        <a:pt x="210" y="105"/>
                      </a:cubicBezTo>
                      <a:cubicBezTo>
                        <a:pt x="285" y="158"/>
                        <a:pt x="493" y="157"/>
                        <a:pt x="570" y="165"/>
                      </a:cubicBezTo>
                      <a:cubicBezTo>
                        <a:pt x="604" y="267"/>
                        <a:pt x="688" y="264"/>
                        <a:pt x="765" y="315"/>
                      </a:cubicBezTo>
                      <a:cubicBezTo>
                        <a:pt x="782" y="366"/>
                        <a:pt x="784" y="435"/>
                        <a:pt x="855" y="43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932840" y="1367640"/>
                  <a:ext cx="232920" cy="424800"/>
                </a:xfrm>
                <a:custGeom>
                  <a:avLst/>
                  <a:gdLst/>
                  <a:ahLst/>
                  <a:rect l="l" t="t" r="r" b="b"/>
                  <a:pathLst>
                    <a:path w="452" h="825">
                      <a:moveTo>
                        <a:pt x="17" y="825"/>
                      </a:moveTo>
                      <a:cubicBezTo>
                        <a:pt x="27" y="711"/>
                        <a:pt x="0" y="636"/>
                        <a:pt x="107" y="600"/>
                      </a:cubicBezTo>
                      <a:cubicBezTo>
                        <a:pt x="189" y="518"/>
                        <a:pt x="133" y="592"/>
                        <a:pt x="167" y="435"/>
                      </a:cubicBezTo>
                      <a:cubicBezTo>
                        <a:pt x="174" y="404"/>
                        <a:pt x="197" y="345"/>
                        <a:pt x="197" y="345"/>
                      </a:cubicBezTo>
                      <a:cubicBezTo>
                        <a:pt x="202" y="285"/>
                        <a:pt x="195" y="223"/>
                        <a:pt x="212" y="165"/>
                      </a:cubicBezTo>
                      <a:cubicBezTo>
                        <a:pt x="217" y="148"/>
                        <a:pt x="244" y="148"/>
                        <a:pt x="257" y="135"/>
                      </a:cubicBezTo>
                      <a:cubicBezTo>
                        <a:pt x="325" y="67"/>
                        <a:pt x="244" y="104"/>
                        <a:pt x="332" y="75"/>
                      </a:cubicBezTo>
                      <a:cubicBezTo>
                        <a:pt x="342" y="60"/>
                        <a:pt x="347" y="40"/>
                        <a:pt x="362" y="30"/>
                      </a:cubicBezTo>
                      <a:cubicBezTo>
                        <a:pt x="389" y="13"/>
                        <a:pt x="452" y="0"/>
                        <a:pt x="452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"/>
              <p:cNvGrpSpPr/>
              <p:nvPr/>
            </p:nvGrpSpPr>
            <p:grpSpPr>
              <a:xfrm>
                <a:off x="2732760" y="1260720"/>
                <a:ext cx="1208160" cy="1235880"/>
                <a:chOff x="2732760" y="1260720"/>
                <a:chExt cx="1208160" cy="12358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2732760" y="1260720"/>
                  <a:ext cx="1208160" cy="1230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004920" y="1731600"/>
                  <a:ext cx="362880" cy="340560"/>
                </a:xfrm>
                <a:custGeom>
                  <a:avLst/>
                  <a:gdLst/>
                  <a:ahLst/>
                  <a:rect l="l" t="t" r="r" b="b"/>
                  <a:pathLst>
                    <a:path w="795" h="795">
                      <a:moveTo>
                        <a:pt x="195" y="0"/>
                      </a:moveTo>
                      <a:lnTo>
                        <a:pt x="0" y="240"/>
                      </a:lnTo>
                      <a:lnTo>
                        <a:pt x="60" y="615"/>
                      </a:lnTo>
                      <a:lnTo>
                        <a:pt x="705" y="795"/>
                      </a:lnTo>
                      <a:lnTo>
                        <a:pt x="795" y="390"/>
                      </a:lnTo>
                      <a:lnTo>
                        <a:pt x="615" y="15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445200" y="1389240"/>
                  <a:ext cx="262800" cy="340560"/>
                </a:xfrm>
                <a:custGeom>
                  <a:avLst/>
                  <a:gdLst/>
                  <a:ahLst/>
                  <a:rect l="l" t="t" r="r" b="b"/>
                  <a:pathLst>
                    <a:path w="510" h="660">
                      <a:moveTo>
                        <a:pt x="0" y="0"/>
                      </a:moveTo>
                      <a:lnTo>
                        <a:pt x="420" y="105"/>
                      </a:lnTo>
                      <a:lnTo>
                        <a:pt x="510" y="285"/>
                      </a:lnTo>
                      <a:lnTo>
                        <a:pt x="360" y="660"/>
                      </a:lnTo>
                      <a:lnTo>
                        <a:pt x="15" y="3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80720" y="1369440"/>
                  <a:ext cx="239400" cy="169560"/>
                </a:xfrm>
                <a:custGeom>
                  <a:avLst/>
                  <a:gdLst/>
                  <a:ahLst/>
                  <a:rect l="l" t="t" r="r" b="b"/>
                  <a:pathLst>
                    <a:path w="465" h="330">
                      <a:moveTo>
                        <a:pt x="0" y="330"/>
                      </a:moveTo>
                      <a:lnTo>
                        <a:pt x="405" y="330"/>
                      </a:lnTo>
                      <a:lnTo>
                        <a:pt x="465" y="180"/>
                      </a:lnTo>
                      <a:lnTo>
                        <a:pt x="240" y="0"/>
                      </a:lnTo>
                      <a:lnTo>
                        <a:pt x="120" y="105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337200" y="2140920"/>
                  <a:ext cx="518400" cy="301320"/>
                </a:xfrm>
                <a:custGeom>
                  <a:avLst/>
                  <a:gdLst/>
                  <a:ahLst/>
                  <a:rect l="l" t="t" r="r" b="b"/>
                  <a:pathLst>
                    <a:path w="1005" h="585">
                      <a:moveTo>
                        <a:pt x="0" y="285"/>
                      </a:moveTo>
                      <a:lnTo>
                        <a:pt x="345" y="585"/>
                      </a:lnTo>
                      <a:lnTo>
                        <a:pt x="930" y="540"/>
                      </a:lnTo>
                      <a:lnTo>
                        <a:pt x="1005" y="135"/>
                      </a:lnTo>
                      <a:lnTo>
                        <a:pt x="780" y="15"/>
                      </a:lnTo>
                      <a:lnTo>
                        <a:pt x="330" y="0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41480" y="2116440"/>
                  <a:ext cx="200520" cy="186120"/>
                </a:xfrm>
                <a:custGeom>
                  <a:avLst/>
                  <a:gdLst/>
                  <a:ahLst/>
                  <a:rect l="l" t="t" r="r" b="b"/>
                  <a:pathLst>
                    <a:path w="390" h="360">
                      <a:moveTo>
                        <a:pt x="120" y="0"/>
                      </a:moveTo>
                      <a:lnTo>
                        <a:pt x="390" y="75"/>
                      </a:lnTo>
                      <a:lnTo>
                        <a:pt x="360" y="360"/>
                      </a:lnTo>
                      <a:lnTo>
                        <a:pt x="60" y="330"/>
                      </a:lnTo>
                      <a:lnTo>
                        <a:pt x="0" y="45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599280" y="1833480"/>
                  <a:ext cx="216720" cy="169560"/>
                </a:xfrm>
                <a:custGeom>
                  <a:avLst/>
                  <a:gdLst/>
                  <a:ahLst/>
                  <a:rect l="l" t="t" r="r" b="b"/>
                  <a:pathLst>
                    <a:path w="420" h="330">
                      <a:moveTo>
                        <a:pt x="0" y="15"/>
                      </a:moveTo>
                      <a:lnTo>
                        <a:pt x="330" y="0"/>
                      </a:lnTo>
                      <a:lnTo>
                        <a:pt x="420" y="330"/>
                      </a:lnTo>
                      <a:lnTo>
                        <a:pt x="0" y="12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197520" y="1274760"/>
                  <a:ext cx="223920" cy="1221840"/>
                </a:xfrm>
                <a:custGeom>
                  <a:avLst/>
                  <a:gdLst/>
                  <a:ahLst/>
                  <a:rect l="l" t="t" r="r" b="b"/>
                  <a:pathLst>
                    <a:path w="435" h="2370">
                      <a:moveTo>
                        <a:pt x="150" y="0"/>
                      </a:moveTo>
                      <a:cubicBezTo>
                        <a:pt x="161" y="128"/>
                        <a:pt x="201" y="293"/>
                        <a:pt x="165" y="420"/>
                      </a:cubicBezTo>
                      <a:cubicBezTo>
                        <a:pt x="161" y="435"/>
                        <a:pt x="135" y="430"/>
                        <a:pt x="120" y="435"/>
                      </a:cubicBezTo>
                      <a:cubicBezTo>
                        <a:pt x="92" y="520"/>
                        <a:pt x="125" y="607"/>
                        <a:pt x="150" y="690"/>
                      </a:cubicBezTo>
                      <a:cubicBezTo>
                        <a:pt x="159" y="720"/>
                        <a:pt x="170" y="750"/>
                        <a:pt x="180" y="780"/>
                      </a:cubicBezTo>
                      <a:cubicBezTo>
                        <a:pt x="185" y="795"/>
                        <a:pt x="195" y="825"/>
                        <a:pt x="195" y="825"/>
                      </a:cubicBezTo>
                      <a:cubicBezTo>
                        <a:pt x="208" y="919"/>
                        <a:pt x="200" y="1002"/>
                        <a:pt x="300" y="1035"/>
                      </a:cubicBezTo>
                      <a:cubicBezTo>
                        <a:pt x="337" y="1090"/>
                        <a:pt x="338" y="1145"/>
                        <a:pt x="375" y="1200"/>
                      </a:cubicBezTo>
                      <a:cubicBezTo>
                        <a:pt x="353" y="1621"/>
                        <a:pt x="435" y="1410"/>
                        <a:pt x="255" y="1530"/>
                      </a:cubicBezTo>
                      <a:cubicBezTo>
                        <a:pt x="260" y="1555"/>
                        <a:pt x="264" y="1580"/>
                        <a:pt x="270" y="1605"/>
                      </a:cubicBezTo>
                      <a:cubicBezTo>
                        <a:pt x="274" y="1620"/>
                        <a:pt x="285" y="1634"/>
                        <a:pt x="285" y="1650"/>
                      </a:cubicBezTo>
                      <a:cubicBezTo>
                        <a:pt x="285" y="1673"/>
                        <a:pt x="242" y="1795"/>
                        <a:pt x="240" y="1800"/>
                      </a:cubicBezTo>
                      <a:cubicBezTo>
                        <a:pt x="232" y="1824"/>
                        <a:pt x="239" y="1854"/>
                        <a:pt x="225" y="1875"/>
                      </a:cubicBezTo>
                      <a:cubicBezTo>
                        <a:pt x="216" y="1888"/>
                        <a:pt x="195" y="1885"/>
                        <a:pt x="180" y="1890"/>
                      </a:cubicBezTo>
                      <a:cubicBezTo>
                        <a:pt x="175" y="1920"/>
                        <a:pt x="180" y="1954"/>
                        <a:pt x="165" y="1980"/>
                      </a:cubicBezTo>
                      <a:cubicBezTo>
                        <a:pt x="157" y="1994"/>
                        <a:pt x="131" y="1984"/>
                        <a:pt x="120" y="1995"/>
                      </a:cubicBezTo>
                      <a:cubicBezTo>
                        <a:pt x="95" y="2020"/>
                        <a:pt x="60" y="2085"/>
                        <a:pt x="60" y="2085"/>
                      </a:cubicBezTo>
                      <a:cubicBezTo>
                        <a:pt x="55" y="2120"/>
                        <a:pt x="53" y="2156"/>
                        <a:pt x="45" y="2190"/>
                      </a:cubicBezTo>
                      <a:cubicBezTo>
                        <a:pt x="29" y="2260"/>
                        <a:pt x="0" y="2301"/>
                        <a:pt x="0" y="237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706560" y="1367280"/>
                  <a:ext cx="234360" cy="425880"/>
                </a:xfrm>
                <a:custGeom>
                  <a:avLst/>
                  <a:gdLst/>
                  <a:ahLst/>
                  <a:rect l="l" t="t" r="r" b="b"/>
                  <a:pathLst>
                    <a:path w="452" h="825">
                      <a:moveTo>
                        <a:pt x="17" y="825"/>
                      </a:moveTo>
                      <a:cubicBezTo>
                        <a:pt x="27" y="711"/>
                        <a:pt x="0" y="636"/>
                        <a:pt x="107" y="600"/>
                      </a:cubicBezTo>
                      <a:cubicBezTo>
                        <a:pt x="189" y="518"/>
                        <a:pt x="133" y="592"/>
                        <a:pt x="167" y="435"/>
                      </a:cubicBezTo>
                      <a:cubicBezTo>
                        <a:pt x="174" y="404"/>
                        <a:pt x="197" y="345"/>
                        <a:pt x="197" y="345"/>
                      </a:cubicBezTo>
                      <a:cubicBezTo>
                        <a:pt x="202" y="285"/>
                        <a:pt x="195" y="223"/>
                        <a:pt x="212" y="165"/>
                      </a:cubicBezTo>
                      <a:cubicBezTo>
                        <a:pt x="217" y="148"/>
                        <a:pt x="244" y="148"/>
                        <a:pt x="257" y="135"/>
                      </a:cubicBezTo>
                      <a:cubicBezTo>
                        <a:pt x="325" y="67"/>
                        <a:pt x="244" y="104"/>
                        <a:pt x="332" y="75"/>
                      </a:cubicBezTo>
                      <a:cubicBezTo>
                        <a:pt x="342" y="60"/>
                        <a:pt x="347" y="40"/>
                        <a:pt x="362" y="30"/>
                      </a:cubicBezTo>
                      <a:cubicBezTo>
                        <a:pt x="389" y="13"/>
                        <a:pt x="452" y="0"/>
                        <a:pt x="452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102000" y="1311840"/>
                <a:ext cx="1215000" cy="1230120"/>
                <a:chOff x="6102000" y="1311840"/>
                <a:chExt cx="1215000" cy="123012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550200" y="1779480"/>
                  <a:ext cx="655560" cy="399960"/>
                </a:xfrm>
                <a:prstGeom prst="rightArrow">
                  <a:avLst>
                    <a:gd name="adj1" fmla="val 50000"/>
                    <a:gd name="adj2" fmla="val 40977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102000" y="1311840"/>
                  <a:ext cx="1208160" cy="123012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374520" y="1782720"/>
                  <a:ext cx="362520" cy="340560"/>
                </a:xfrm>
                <a:custGeom>
                  <a:avLst/>
                  <a:gdLst/>
                  <a:ahLst/>
                  <a:rect l="l" t="t" r="r" b="b"/>
                  <a:pathLst>
                    <a:path w="795" h="795">
                      <a:moveTo>
                        <a:pt x="195" y="0"/>
                      </a:moveTo>
                      <a:lnTo>
                        <a:pt x="0" y="240"/>
                      </a:lnTo>
                      <a:lnTo>
                        <a:pt x="60" y="615"/>
                      </a:lnTo>
                      <a:lnTo>
                        <a:pt x="705" y="795"/>
                      </a:lnTo>
                      <a:lnTo>
                        <a:pt x="795" y="390"/>
                      </a:lnTo>
                      <a:lnTo>
                        <a:pt x="615" y="15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814440" y="1440360"/>
                  <a:ext cx="263160" cy="340560"/>
                </a:xfrm>
                <a:custGeom>
                  <a:avLst/>
                  <a:gdLst/>
                  <a:ahLst/>
                  <a:rect l="l" t="t" r="r" b="b"/>
                  <a:pathLst>
                    <a:path w="510" h="660">
                      <a:moveTo>
                        <a:pt x="0" y="0"/>
                      </a:moveTo>
                      <a:lnTo>
                        <a:pt x="420" y="105"/>
                      </a:lnTo>
                      <a:lnTo>
                        <a:pt x="510" y="285"/>
                      </a:lnTo>
                      <a:lnTo>
                        <a:pt x="360" y="660"/>
                      </a:lnTo>
                      <a:lnTo>
                        <a:pt x="15" y="3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249960" y="1420560"/>
                  <a:ext cx="239400" cy="169560"/>
                </a:xfrm>
                <a:custGeom>
                  <a:avLst/>
                  <a:gdLst/>
                  <a:ahLst/>
                  <a:rect l="l" t="t" r="r" b="b"/>
                  <a:pathLst>
                    <a:path w="465" h="330">
                      <a:moveTo>
                        <a:pt x="0" y="330"/>
                      </a:moveTo>
                      <a:lnTo>
                        <a:pt x="405" y="330"/>
                      </a:lnTo>
                      <a:lnTo>
                        <a:pt x="465" y="180"/>
                      </a:lnTo>
                      <a:lnTo>
                        <a:pt x="240" y="0"/>
                      </a:lnTo>
                      <a:lnTo>
                        <a:pt x="120" y="105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706440" y="2192040"/>
                  <a:ext cx="518040" cy="301320"/>
                </a:xfrm>
                <a:custGeom>
                  <a:avLst/>
                  <a:gdLst/>
                  <a:ahLst/>
                  <a:rect l="l" t="t" r="r" b="b"/>
                  <a:pathLst>
                    <a:path w="1005" h="585">
                      <a:moveTo>
                        <a:pt x="0" y="285"/>
                      </a:moveTo>
                      <a:lnTo>
                        <a:pt x="345" y="585"/>
                      </a:lnTo>
                      <a:lnTo>
                        <a:pt x="930" y="540"/>
                      </a:lnTo>
                      <a:lnTo>
                        <a:pt x="1005" y="135"/>
                      </a:lnTo>
                      <a:lnTo>
                        <a:pt x="780" y="15"/>
                      </a:lnTo>
                      <a:lnTo>
                        <a:pt x="330" y="0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211080" y="2167560"/>
                  <a:ext cx="200520" cy="186120"/>
                </a:xfrm>
                <a:custGeom>
                  <a:avLst/>
                  <a:gdLst/>
                  <a:ahLst/>
                  <a:rect l="l" t="t" r="r" b="b"/>
                  <a:pathLst>
                    <a:path w="390" h="360">
                      <a:moveTo>
                        <a:pt x="120" y="0"/>
                      </a:moveTo>
                      <a:lnTo>
                        <a:pt x="390" y="75"/>
                      </a:lnTo>
                      <a:lnTo>
                        <a:pt x="360" y="360"/>
                      </a:lnTo>
                      <a:lnTo>
                        <a:pt x="60" y="330"/>
                      </a:lnTo>
                      <a:lnTo>
                        <a:pt x="0" y="45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968880" y="1884600"/>
                  <a:ext cx="216720" cy="169560"/>
                </a:xfrm>
                <a:custGeom>
                  <a:avLst/>
                  <a:gdLst/>
                  <a:ahLst/>
                  <a:rect l="l" t="t" r="r" b="b"/>
                  <a:pathLst>
                    <a:path w="420" h="330">
                      <a:moveTo>
                        <a:pt x="0" y="15"/>
                      </a:moveTo>
                      <a:lnTo>
                        <a:pt x="330" y="0"/>
                      </a:lnTo>
                      <a:lnTo>
                        <a:pt x="420" y="330"/>
                      </a:lnTo>
                      <a:lnTo>
                        <a:pt x="0" y="12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111000" y="1724040"/>
                  <a:ext cx="1206000" cy="219960"/>
                </a:xfrm>
                <a:custGeom>
                  <a:avLst/>
                  <a:gdLst/>
                  <a:ahLst/>
                  <a:rect l="l" t="t" r="r" b="b"/>
                  <a:pathLst>
                    <a:path w="2340" h="427">
                      <a:moveTo>
                        <a:pt x="0" y="427"/>
                      </a:moveTo>
                      <a:cubicBezTo>
                        <a:pt x="6" y="426"/>
                        <a:pt x="198" y="404"/>
                        <a:pt x="210" y="397"/>
                      </a:cubicBezTo>
                      <a:cubicBezTo>
                        <a:pt x="224" y="389"/>
                        <a:pt x="214" y="363"/>
                        <a:pt x="225" y="352"/>
                      </a:cubicBezTo>
                      <a:cubicBezTo>
                        <a:pt x="265" y="312"/>
                        <a:pt x="335" y="329"/>
                        <a:pt x="390" y="322"/>
                      </a:cubicBezTo>
                      <a:cubicBezTo>
                        <a:pt x="420" y="312"/>
                        <a:pt x="450" y="302"/>
                        <a:pt x="480" y="292"/>
                      </a:cubicBezTo>
                      <a:cubicBezTo>
                        <a:pt x="495" y="287"/>
                        <a:pt x="525" y="277"/>
                        <a:pt x="525" y="277"/>
                      </a:cubicBezTo>
                      <a:cubicBezTo>
                        <a:pt x="530" y="262"/>
                        <a:pt x="533" y="246"/>
                        <a:pt x="540" y="232"/>
                      </a:cubicBezTo>
                      <a:cubicBezTo>
                        <a:pt x="548" y="216"/>
                        <a:pt x="564" y="204"/>
                        <a:pt x="570" y="187"/>
                      </a:cubicBezTo>
                      <a:cubicBezTo>
                        <a:pt x="610" y="80"/>
                        <a:pt x="548" y="136"/>
                        <a:pt x="630" y="82"/>
                      </a:cubicBezTo>
                      <a:cubicBezTo>
                        <a:pt x="761" y="86"/>
                        <a:pt x="1065" y="0"/>
                        <a:pt x="1170" y="157"/>
                      </a:cubicBezTo>
                      <a:cubicBezTo>
                        <a:pt x="1175" y="177"/>
                        <a:pt x="1172" y="201"/>
                        <a:pt x="1185" y="217"/>
                      </a:cubicBezTo>
                      <a:cubicBezTo>
                        <a:pt x="1190" y="223"/>
                        <a:pt x="1278" y="244"/>
                        <a:pt x="1290" y="247"/>
                      </a:cubicBezTo>
                      <a:cubicBezTo>
                        <a:pt x="1317" y="329"/>
                        <a:pt x="1329" y="327"/>
                        <a:pt x="1410" y="307"/>
                      </a:cubicBezTo>
                      <a:cubicBezTo>
                        <a:pt x="1565" y="204"/>
                        <a:pt x="1604" y="217"/>
                        <a:pt x="1815" y="202"/>
                      </a:cubicBezTo>
                      <a:cubicBezTo>
                        <a:pt x="1911" y="214"/>
                        <a:pt x="2005" y="228"/>
                        <a:pt x="2100" y="247"/>
                      </a:cubicBezTo>
                      <a:cubicBezTo>
                        <a:pt x="2151" y="323"/>
                        <a:pt x="2103" y="271"/>
                        <a:pt x="2175" y="307"/>
                      </a:cubicBezTo>
                      <a:cubicBezTo>
                        <a:pt x="2279" y="359"/>
                        <a:pt x="2144" y="337"/>
                        <a:pt x="2340" y="337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110280" y="1643760"/>
                  <a:ext cx="370800" cy="53280"/>
                </a:xfrm>
                <a:custGeom>
                  <a:avLst/>
                  <a:gdLst/>
                  <a:ahLst/>
                  <a:rect l="l" t="t" r="r" b="b"/>
                  <a:pathLst>
                    <a:path w="720" h="105">
                      <a:moveTo>
                        <a:pt x="0" y="0"/>
                      </a:moveTo>
                      <a:cubicBezTo>
                        <a:pt x="120" y="40"/>
                        <a:pt x="266" y="36"/>
                        <a:pt x="390" y="45"/>
                      </a:cubicBezTo>
                      <a:cubicBezTo>
                        <a:pt x="460" y="92"/>
                        <a:pt x="537" y="79"/>
                        <a:pt x="615" y="105"/>
                      </a:cubicBezTo>
                      <a:cubicBezTo>
                        <a:pt x="690" y="86"/>
                        <a:pt x="654" y="90"/>
                        <a:pt x="720" y="9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"/>
              <p:cNvGrpSpPr/>
              <p:nvPr/>
            </p:nvGrpSpPr>
            <p:grpSpPr>
              <a:xfrm>
                <a:off x="4385520" y="1286280"/>
                <a:ext cx="1214640" cy="1230120"/>
                <a:chOff x="4385520" y="1286280"/>
                <a:chExt cx="1214640" cy="1230120"/>
              </a:xfrm>
            </p:grpSpPr>
            <p:sp>
              <p:nvSpPr>
                <p:cNvPr id="191" name=""/>
                <p:cNvSpPr/>
                <p:nvPr/>
              </p:nvSpPr>
              <p:spPr>
                <a:xfrm>
                  <a:off x="4392720" y="1286280"/>
                  <a:ext cx="1207440" cy="123012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64880" y="1757160"/>
                  <a:ext cx="362880" cy="340560"/>
                </a:xfrm>
                <a:custGeom>
                  <a:avLst/>
                  <a:gdLst/>
                  <a:ahLst/>
                  <a:rect l="l" t="t" r="r" b="b"/>
                  <a:pathLst>
                    <a:path w="795" h="795">
                      <a:moveTo>
                        <a:pt x="195" y="0"/>
                      </a:moveTo>
                      <a:lnTo>
                        <a:pt x="0" y="240"/>
                      </a:lnTo>
                      <a:lnTo>
                        <a:pt x="60" y="615"/>
                      </a:lnTo>
                      <a:lnTo>
                        <a:pt x="705" y="795"/>
                      </a:lnTo>
                      <a:lnTo>
                        <a:pt x="795" y="390"/>
                      </a:lnTo>
                      <a:lnTo>
                        <a:pt x="615" y="150"/>
                      </a:lnTo>
                      <a:lnTo>
                        <a:pt x="19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5104800" y="1414800"/>
                  <a:ext cx="262800" cy="340560"/>
                </a:xfrm>
                <a:custGeom>
                  <a:avLst/>
                  <a:gdLst/>
                  <a:ahLst/>
                  <a:rect l="l" t="t" r="r" b="b"/>
                  <a:pathLst>
                    <a:path w="510" h="660">
                      <a:moveTo>
                        <a:pt x="0" y="0"/>
                      </a:moveTo>
                      <a:lnTo>
                        <a:pt x="420" y="105"/>
                      </a:lnTo>
                      <a:lnTo>
                        <a:pt x="510" y="285"/>
                      </a:lnTo>
                      <a:lnTo>
                        <a:pt x="360" y="660"/>
                      </a:lnTo>
                      <a:lnTo>
                        <a:pt x="15" y="3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540680" y="1395000"/>
                  <a:ext cx="239040" cy="169560"/>
                </a:xfrm>
                <a:custGeom>
                  <a:avLst/>
                  <a:gdLst/>
                  <a:ahLst/>
                  <a:rect l="l" t="t" r="r" b="b"/>
                  <a:pathLst>
                    <a:path w="465" h="330">
                      <a:moveTo>
                        <a:pt x="0" y="330"/>
                      </a:moveTo>
                      <a:lnTo>
                        <a:pt x="405" y="330"/>
                      </a:lnTo>
                      <a:lnTo>
                        <a:pt x="465" y="180"/>
                      </a:lnTo>
                      <a:lnTo>
                        <a:pt x="240" y="0"/>
                      </a:lnTo>
                      <a:lnTo>
                        <a:pt x="120" y="105"/>
                      </a:lnTo>
                      <a:lnTo>
                        <a:pt x="0" y="3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996800" y="2166480"/>
                  <a:ext cx="518040" cy="301320"/>
                </a:xfrm>
                <a:custGeom>
                  <a:avLst/>
                  <a:gdLst/>
                  <a:ahLst/>
                  <a:rect l="l" t="t" r="r" b="b"/>
                  <a:pathLst>
                    <a:path w="1005" h="585">
                      <a:moveTo>
                        <a:pt x="0" y="285"/>
                      </a:moveTo>
                      <a:lnTo>
                        <a:pt x="345" y="585"/>
                      </a:lnTo>
                      <a:lnTo>
                        <a:pt x="930" y="540"/>
                      </a:lnTo>
                      <a:lnTo>
                        <a:pt x="1005" y="135"/>
                      </a:lnTo>
                      <a:lnTo>
                        <a:pt x="780" y="15"/>
                      </a:lnTo>
                      <a:lnTo>
                        <a:pt x="330" y="0"/>
                      </a:lnTo>
                      <a:lnTo>
                        <a:pt x="0" y="2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501440" y="2142000"/>
                  <a:ext cx="200160" cy="186120"/>
                </a:xfrm>
                <a:custGeom>
                  <a:avLst/>
                  <a:gdLst/>
                  <a:ahLst/>
                  <a:rect l="l" t="t" r="r" b="b"/>
                  <a:pathLst>
                    <a:path w="390" h="360">
                      <a:moveTo>
                        <a:pt x="120" y="0"/>
                      </a:moveTo>
                      <a:lnTo>
                        <a:pt x="390" y="75"/>
                      </a:lnTo>
                      <a:lnTo>
                        <a:pt x="360" y="360"/>
                      </a:lnTo>
                      <a:lnTo>
                        <a:pt x="60" y="330"/>
                      </a:lnTo>
                      <a:lnTo>
                        <a:pt x="0" y="45"/>
                      </a:lnTo>
                      <a:lnTo>
                        <a:pt x="12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258880" y="1859040"/>
                  <a:ext cx="216720" cy="169560"/>
                </a:xfrm>
                <a:custGeom>
                  <a:avLst/>
                  <a:gdLst/>
                  <a:ahLst/>
                  <a:rect l="l" t="t" r="r" b="b"/>
                  <a:pathLst>
                    <a:path w="420" h="330">
                      <a:moveTo>
                        <a:pt x="0" y="15"/>
                      </a:moveTo>
                      <a:lnTo>
                        <a:pt x="330" y="0"/>
                      </a:lnTo>
                      <a:lnTo>
                        <a:pt x="420" y="330"/>
                      </a:lnTo>
                      <a:lnTo>
                        <a:pt x="0" y="12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385520" y="2027520"/>
                  <a:ext cx="517680" cy="293040"/>
                </a:xfrm>
                <a:custGeom>
                  <a:avLst/>
                  <a:gdLst/>
                  <a:ahLst/>
                  <a:rect l="l" t="t" r="r" b="b"/>
                  <a:pathLst>
                    <a:path w="1005" h="570">
                      <a:moveTo>
                        <a:pt x="1005" y="570"/>
                      </a:moveTo>
                      <a:cubicBezTo>
                        <a:pt x="977" y="542"/>
                        <a:pt x="943" y="523"/>
                        <a:pt x="915" y="495"/>
                      </a:cubicBezTo>
                      <a:cubicBezTo>
                        <a:pt x="902" y="482"/>
                        <a:pt x="899" y="462"/>
                        <a:pt x="885" y="450"/>
                      </a:cubicBezTo>
                      <a:cubicBezTo>
                        <a:pt x="858" y="426"/>
                        <a:pt x="825" y="410"/>
                        <a:pt x="795" y="390"/>
                      </a:cubicBezTo>
                      <a:cubicBezTo>
                        <a:pt x="682" y="315"/>
                        <a:pt x="809" y="377"/>
                        <a:pt x="720" y="300"/>
                      </a:cubicBezTo>
                      <a:cubicBezTo>
                        <a:pt x="693" y="276"/>
                        <a:pt x="660" y="260"/>
                        <a:pt x="630" y="240"/>
                      </a:cubicBezTo>
                      <a:cubicBezTo>
                        <a:pt x="609" y="226"/>
                        <a:pt x="603" y="198"/>
                        <a:pt x="585" y="180"/>
                      </a:cubicBezTo>
                      <a:cubicBezTo>
                        <a:pt x="572" y="167"/>
                        <a:pt x="554" y="162"/>
                        <a:pt x="540" y="150"/>
                      </a:cubicBezTo>
                      <a:cubicBezTo>
                        <a:pt x="524" y="136"/>
                        <a:pt x="513" y="116"/>
                        <a:pt x="495" y="105"/>
                      </a:cubicBezTo>
                      <a:cubicBezTo>
                        <a:pt x="472" y="91"/>
                        <a:pt x="444" y="87"/>
                        <a:pt x="420" y="75"/>
                      </a:cubicBezTo>
                      <a:cubicBezTo>
                        <a:pt x="404" y="67"/>
                        <a:pt x="390" y="55"/>
                        <a:pt x="375" y="45"/>
                      </a:cubicBezTo>
                      <a:cubicBezTo>
                        <a:pt x="264" y="73"/>
                        <a:pt x="283" y="77"/>
                        <a:pt x="150" y="60"/>
                      </a:cubicBezTo>
                      <a:cubicBezTo>
                        <a:pt x="95" y="5"/>
                        <a:pt x="77" y="0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150880" y="2043000"/>
                  <a:ext cx="439560" cy="224280"/>
                </a:xfrm>
                <a:custGeom>
                  <a:avLst/>
                  <a:gdLst/>
                  <a:ahLst/>
                  <a:rect l="l" t="t" r="r" b="b"/>
                  <a:pathLst>
                    <a:path w="855" h="435">
                      <a:moveTo>
                        <a:pt x="0" y="0"/>
                      </a:moveTo>
                      <a:cubicBezTo>
                        <a:pt x="65" y="22"/>
                        <a:pt x="130" y="38"/>
                        <a:pt x="195" y="60"/>
                      </a:cubicBezTo>
                      <a:cubicBezTo>
                        <a:pt x="200" y="75"/>
                        <a:pt x="197" y="96"/>
                        <a:pt x="210" y="105"/>
                      </a:cubicBezTo>
                      <a:cubicBezTo>
                        <a:pt x="285" y="158"/>
                        <a:pt x="493" y="157"/>
                        <a:pt x="570" y="165"/>
                      </a:cubicBezTo>
                      <a:cubicBezTo>
                        <a:pt x="604" y="267"/>
                        <a:pt x="688" y="264"/>
                        <a:pt x="765" y="315"/>
                      </a:cubicBezTo>
                      <a:cubicBezTo>
                        <a:pt x="782" y="366"/>
                        <a:pt x="784" y="435"/>
                        <a:pt x="855" y="435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"/>
              <p:cNvSpPr/>
              <p:nvPr/>
            </p:nvSpPr>
            <p:spPr>
              <a:xfrm>
                <a:off x="2211120" y="1643040"/>
                <a:ext cx="4503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972960" y="1629720"/>
                <a:ext cx="4492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656680" y="1643040"/>
                <a:ext cx="4503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953280" y="3179880"/>
              <a:ext cx="6351120" cy="1251360"/>
              <a:chOff x="953280" y="3179880"/>
              <a:chExt cx="6351120" cy="125136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953280" y="3189960"/>
                <a:ext cx="1209600" cy="1241280"/>
                <a:chOff x="953280" y="3189960"/>
                <a:chExt cx="1209600" cy="1241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953280" y="3191760"/>
                  <a:ext cx="1209600" cy="1233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967320" y="3821040"/>
                  <a:ext cx="1179720" cy="6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487880" y="3189960"/>
                  <a:ext cx="124200" cy="124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60480" y="3406680"/>
                  <a:ext cx="1202400" cy="84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1580760" y="4113360"/>
                  <a:ext cx="156240" cy="1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1845000" y="3918600"/>
                  <a:ext cx="925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1906560" y="3679560"/>
                  <a:ext cx="72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12" name=""/>
                    <p:cNvSpPr txBox="1"/>
                    <p:nvPr/>
                  </p:nvSpPr>
                  <p:spPr>
                    <a:xfrm>
                      <a:off x="1619640" y="4111560"/>
                      <a:ext cx="203400" cy="2692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13" name=""/>
                    <p:cNvSpPr txBox="1"/>
                    <p:nvPr/>
                  </p:nvSpPr>
                  <p:spPr>
                    <a:xfrm>
                      <a:off x="1930320" y="3815280"/>
                      <a:ext cx="206640" cy="254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14" name=""/>
                    <p:cNvSpPr txBox="1"/>
                    <p:nvPr/>
                  </p:nvSpPr>
                  <p:spPr>
                    <a:xfrm>
                      <a:off x="1930320" y="3555000"/>
                      <a:ext cx="206640" cy="2703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215" name=""/>
              <p:cNvSpPr/>
              <p:nvPr/>
            </p:nvSpPr>
            <p:spPr>
              <a:xfrm>
                <a:off x="2224440" y="3495600"/>
                <a:ext cx="4492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972960" y="3533760"/>
                <a:ext cx="44928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630760" y="3547080"/>
                <a:ext cx="450360" cy="43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2739600" y="3189960"/>
                <a:ext cx="1209600" cy="1241280"/>
                <a:chOff x="2739600" y="3189960"/>
                <a:chExt cx="1209600" cy="12412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739600" y="3191760"/>
                  <a:ext cx="1209600" cy="1233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274200" y="3189960"/>
                  <a:ext cx="124560" cy="124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3367080" y="4113360"/>
                  <a:ext cx="156240" cy="1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2" name=""/>
                    <p:cNvSpPr txBox="1"/>
                    <p:nvPr/>
                  </p:nvSpPr>
                  <p:spPr>
                    <a:xfrm>
                      <a:off x="3405960" y="4111560"/>
                      <a:ext cx="207720" cy="27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3" name=""/>
                    <p:cNvSpPr txBox="1"/>
                    <p:nvPr/>
                  </p:nvSpPr>
                  <p:spPr>
                    <a:xfrm>
                      <a:off x="3367080" y="3648600"/>
                      <a:ext cx="208800" cy="27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24" name=""/>
              <p:cNvGrpSpPr/>
              <p:nvPr/>
            </p:nvGrpSpPr>
            <p:grpSpPr>
              <a:xfrm>
                <a:off x="4412160" y="3192120"/>
                <a:ext cx="1208160" cy="1233360"/>
                <a:chOff x="4412160" y="3192120"/>
                <a:chExt cx="1208160" cy="1233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4412160" y="3192120"/>
                  <a:ext cx="1208160" cy="1233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419360" y="3406680"/>
                  <a:ext cx="1200960" cy="84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5303520" y="3919320"/>
                  <a:ext cx="91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28" name=""/>
                    <p:cNvSpPr txBox="1"/>
                    <p:nvPr/>
                  </p:nvSpPr>
                  <p:spPr>
                    <a:xfrm>
                      <a:off x="5387760" y="3783240"/>
                      <a:ext cx="232200" cy="2869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29" name=""/>
                    <p:cNvSpPr txBox="1"/>
                    <p:nvPr/>
                  </p:nvSpPr>
                  <p:spPr>
                    <a:xfrm>
                      <a:off x="5012640" y="3571560"/>
                      <a:ext cx="240480" cy="2743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230" name=""/>
              <p:cNvGrpSpPr/>
              <p:nvPr/>
            </p:nvGrpSpPr>
            <p:grpSpPr>
              <a:xfrm>
                <a:off x="6096960" y="3179880"/>
                <a:ext cx="1207440" cy="1232280"/>
                <a:chOff x="6096960" y="3179880"/>
                <a:chExt cx="1207440" cy="12322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096960" y="3179880"/>
                  <a:ext cx="1207440" cy="1232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V="1">
                  <a:off x="6111360" y="3809160"/>
                  <a:ext cx="1177560" cy="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049160" y="3667320"/>
                  <a:ext cx="1080" cy="14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234" name=""/>
                    <p:cNvSpPr txBox="1"/>
                    <p:nvPr/>
                  </p:nvSpPr>
                  <p:spPr>
                    <a:xfrm>
                      <a:off x="7071840" y="3536640"/>
                      <a:ext cx="212760" cy="2754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  <mc:AlternateContent>
              <mc:Choice xmlns:a14="http://schemas.microsoft.com/office/drawing/2010/main" Requires="a14">
                <p:sp>
                  <p:nvSpPr>
                    <p:cNvPr id="235" name=""/>
                    <p:cNvSpPr txBox="1"/>
                    <p:nvPr/>
                  </p:nvSpPr>
                  <p:spPr>
                    <a:xfrm>
                      <a:off x="6582240" y="3532320"/>
                      <a:ext cx="223200" cy="2908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sp>
          <p:nvSpPr>
            <p:cNvPr id="236" name=""/>
            <p:cNvSpPr/>
            <p:nvPr/>
          </p:nvSpPr>
          <p:spPr>
            <a:xfrm>
              <a:off x="1414080" y="2620080"/>
              <a:ext cx="398880" cy="488520"/>
            </a:xfrm>
            <a:prstGeom prst="downArrow">
              <a:avLst>
                <a:gd name="adj1" fmla="val 50000"/>
                <a:gd name="adj2" fmla="val 30618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03680" y="641520"/>
              <a:ext cx="273888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ual crac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 a representative volu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641600" y="5807160"/>
                <a:ext cx="12859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c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  <m:r>
                      <m:t xml:space="preserve">≤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657760" y="5765760"/>
                <a:ext cx="151128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f</m:t>
                        </m:r>
                      </m:sub>
                      <m:sup/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63600" y="4586400"/>
            <a:ext cx="35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MSCM (Rots, 1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49960" y="462276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d MS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65640" y="4411800"/>
            <a:ext cx="1440" cy="24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8480" y="5057640"/>
            <a:ext cx="33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 one crack can develop at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54640" y="4992840"/>
            <a:ext cx="37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cracks allowed to develop at 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3640" y="5454720"/>
            <a:ext cx="33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availability for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519440" y="5375160"/>
            <a:ext cx="333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ergy availability for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459560" y="3257640"/>
                <a:ext cx="145728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B58-0504-47A2-ADA9-D9EED6CB433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1840" y="185760"/>
            <a:ext cx="7608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 Simulation Dimensions &amp; Proper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817560"/>
            <a:ext cx="877572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= 15, 30, 60 cm (ligament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= 12 cm (dep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minant crack tip position (initiation of de-cohe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61960" y="2468520"/>
                <a:ext cx="1414440" cy="25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ρ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2350</m:t>
                          </m:r>
                          <m:r>
                            <m:t xml:space="preserve"> 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kg</m:t>
                              </m:r>
                            </m:num>
                            <m:den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den>
                          </m:f>
                        </m:e>
                      </m:mr>
                      <m:mr>
                        <m:e>
                          <m:r>
                            <m:t xml:space="preserve">E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9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GPa</m:t>
                          </m:r>
                        </m:e>
                      </m:mr>
                      <m:mr>
                        <m:e>
                          <m:r>
                            <m:t xml:space="preserve">ν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τ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f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Pa</m:t>
                          </m:r>
                        </m:e>
                      </m:mr>
                      <m:mr>
                        <m:e>
                          <m:sSubSup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c</m:t>
                              </m:r>
                            </m:sub>
                            <m:sup>
                              <m:r>
                                <m:t xml:space="preserve">'</m:t>
                              </m:r>
                            </m:sup>
                          </m:sSubSup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4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r>
                            <m:rPr>
                              <m:lit/>
                              <m:nor/>
                            </m:rPr>
                            <m:t xml:space="preserve">MPa</m:t>
                          </m:r>
                        </m:e>
                      </m:mr>
                      <m:mr>
                        <m:e>
                          <m:r>
                            <m:t xml:space="preserve">G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12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7</m:t>
                          </m:r>
                          <m:f>
                            <m:num>
                              <m:r>
                                <m:t xml:space="preserve">N</m:t>
                              </m:r>
                            </m:num>
                            <m:den>
                              <m:r>
                                <m:t xml:space="preserve">m</m:t>
                              </m:r>
                            </m:den>
                          </m:f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5059440"/>
            <a:ext cx="368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ues taken from Whittmann et al., 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503520" y="2055960"/>
            <a:ext cx="5465880" cy="4176720"/>
            <a:chOff x="3503520" y="2055960"/>
            <a:chExt cx="5465880" cy="4176720"/>
          </a:xfrm>
        </p:grpSpPr>
        <p:sp>
          <p:nvSpPr>
            <p:cNvPr id="254" name=""/>
            <p:cNvSpPr/>
            <p:nvPr/>
          </p:nvSpPr>
          <p:spPr>
            <a:xfrm>
              <a:off x="3740040" y="2084400"/>
              <a:ext cx="3429000" cy="342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6560" y="2084400"/>
              <a:ext cx="76320" cy="205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6560" y="2055960"/>
              <a:ext cx="76320" cy="7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33760" y="2498760"/>
              <a:ext cx="173160" cy="20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0600" y="2490840"/>
              <a:ext cx="172800" cy="203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3503520" y="2600280"/>
              <a:ext cx="9302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3320" y="2593800"/>
              <a:ext cx="10573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26240" y="219240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32280" y="2127240"/>
              <a:ext cx="36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36800" y="5530680"/>
              <a:ext cx="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1120" y="553068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51200" y="5764320"/>
              <a:ext cx="338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76960" y="2076480"/>
              <a:ext cx="73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350120" y="258444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76960" y="550224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76960" y="4138560"/>
              <a:ext cx="78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96280" y="4152960"/>
              <a:ext cx="0" cy="13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489800" y="2592360"/>
              <a:ext cx="0" cy="15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489800" y="2097000"/>
              <a:ext cx="14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778880" y="2141640"/>
              <a:ext cx="71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/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537320" y="316404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545240" y="456408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202360" y="3470400"/>
              <a:ext cx="20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5468760" y="3476520"/>
              <a:ext cx="2318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57760" y="330372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10680" y="2062080"/>
              <a:ext cx="550800" cy="348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410680" y="5546880"/>
              <a:ext cx="0" cy="2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961480" y="5546880"/>
              <a:ext cx="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424720" y="5749920"/>
              <a:ext cx="52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539200" y="579132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410680" y="2482920"/>
              <a:ext cx="550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418600" y="2678040"/>
              <a:ext cx="550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89560" y="5864400"/>
              <a:ext cx="79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.4 b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81600" y="417996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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527800" y="4137120"/>
              <a:ext cx="58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832360" y="41371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6280" y="2629080"/>
              <a:ext cx="0" cy="42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11880" y="2860560"/>
              <a:ext cx="50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720" y="2808360"/>
              <a:ext cx="34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457960" y="4151160"/>
              <a:ext cx="0" cy="47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44800" y="3960720"/>
              <a:ext cx="143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inant cr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38680" y="4997520"/>
              <a:ext cx="159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inant crack t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5560" y="4194000"/>
              <a:ext cx="333360" cy="20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5254560" y="4659480"/>
              <a:ext cx="203400" cy="3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2B73-3E70-411B-8E4D-C93201C339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28400" y="174240"/>
            <a:ext cx="801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Point Method (M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0" y="917640"/>
            <a:ext cx="368136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D explicit MPM (Sulsky et al. 1994, 1995, 1996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material points per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locity boundary condition app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ch width is length of one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-cohesion confined to notch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936960" y="844560"/>
            <a:ext cx="4873680" cy="4873680"/>
            <a:chOff x="3936960" y="844560"/>
            <a:chExt cx="4873680" cy="4873680"/>
          </a:xfrm>
        </p:grpSpPr>
        <p:pic>
          <p:nvPicPr>
            <p:cNvPr id="301" name="" descr=""/>
            <p:cNvPicPr/>
            <p:nvPr/>
          </p:nvPicPr>
          <p:blipFill>
            <a:blip r:embed="rId1"/>
            <a:srcRect l="20987" t="18455" r="21924" b="2622"/>
            <a:stretch/>
          </p:blipFill>
          <p:spPr>
            <a:xfrm>
              <a:off x="3936960" y="844560"/>
              <a:ext cx="4873680" cy="48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531120" y="3021120"/>
              <a:ext cx="190440" cy="1738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4978440" y="1422360"/>
              <a:ext cx="47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742160" y="1486080"/>
              <a:ext cx="479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5764680" y="3771360"/>
              <a:ext cx="1188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tch lin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99A8-A89D-4B47-B939-263ACA9D06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14000" y="188640"/>
            <a:ext cx="80168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Cases Analy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012000" y="1031760"/>
            <a:ext cx="2811240" cy="2577960"/>
            <a:chOff x="6012000" y="1031760"/>
            <a:chExt cx="2811240" cy="2577960"/>
          </a:xfrm>
        </p:grpSpPr>
        <p:sp>
          <p:nvSpPr>
            <p:cNvPr id="308" name=""/>
            <p:cNvSpPr/>
            <p:nvPr/>
          </p:nvSpPr>
          <p:spPr>
            <a:xfrm>
              <a:off x="7143840" y="1417680"/>
              <a:ext cx="0" cy="219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12000" y="2492280"/>
              <a:ext cx="22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0" name=""/>
                <p:cNvSpPr txBox="1"/>
                <p:nvPr/>
              </p:nvSpPr>
              <p:spPr>
                <a:xfrm>
                  <a:off x="8308800" y="2301840"/>
                  <a:ext cx="5144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6873840" y="1031760"/>
                  <a:ext cx="55872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 flipV="1">
              <a:off x="7129440" y="1620360"/>
              <a:ext cx="885960" cy="88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3" name=""/>
                <p:cNvSpPr txBox="1"/>
                <p:nvPr/>
              </p:nvSpPr>
              <p:spPr>
                <a:xfrm>
                  <a:off x="8085240" y="1457280"/>
                  <a:ext cx="222120" cy="22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460840" y="1181160"/>
                <a:ext cx="105444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0" y="1028880"/>
            <a:ext cx="5597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1 (ideal fracture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failure planes allow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etermined ori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440160"/>
            <a:ext cx="6323040" cy="23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failure planes not restri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ilure plane orientations not 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AB5-36D4-4216-9C4B-578D5E1D50D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3T15:25:05Z</dcterms:created>
  <dc:creator>JSanchez</dc:creator>
  <dc:description/>
  <dc:language>en-US</dc:language>
  <cp:lastModifiedBy>JSanchez</cp:lastModifiedBy>
  <dcterms:modified xsi:type="dcterms:W3CDTF">2009-02-19T12:23:20Z</dcterms:modified>
  <cp:revision>478</cp:revision>
  <dc:subject/>
  <dc:title>Slide 1</dc:title>
</cp:coreProperties>
</file>