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1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5F17-4919-4A32-B2CD-B8DCA375C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slide due to Denali Fault Earthquake (M = 7.9, 03 Nov 2002) in central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er Mackenzie-Helnwein, email: pmackenz@u.washington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osium on Mathematical and Computational Aspects of Modeling Hazardous Geophysical Mass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1806-2366-49B1-AEA1-11D42497D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480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48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48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48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C4C0-BAAB-4B1D-9039-E6F0C6CC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AB49-64CF-41AE-AB15-C83C21CB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AD47-D4F1-48A9-A4F1-655C49EB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FFB2-A46B-4741-B623-A0DDF1B0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AC61-7460-43AE-8A57-B637CB56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B51-D78F-4520-9158-9F1A4222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E034-F7B0-4A03-90DB-B7CAFC20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F81-2CAF-4AC3-BA6E-F75904E7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480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6EF5-8C51-4C39-8F08-F53E5B28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2480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C55C-906B-41E6-84F2-4CE29110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887-AF1F-4EB3-974F-B4E4484E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248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248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248000"/>
            <a:ext cx="264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4CBF-4844-4A5C-96B6-CD3455CF4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480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4800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1" lang="en-US" sz="5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6339-23C2-492E-94A8-A0095A07C92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7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087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9900"/>
                </a:solidFill>
                <a:latin typeface="Garamond"/>
              </a:rPr>
              <a:t>3D modeling of landslides and debris-flows </a:t>
            </a:r>
            <a:endParaRPr b="1" lang="en-US" sz="4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715920"/>
            <a:ext cx="64008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WooKuen Sh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edro Arduin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eter Mackenzi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regory R. Mill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Elastoplasticity at Finite Strain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ation (in principal plane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"/>
          <p:cNvSpPr/>
          <p:nvPr/>
        </p:nvSpPr>
        <p:spPr>
          <a:xfrm>
            <a:off x="2268360" y="3867120"/>
            <a:ext cx="358920" cy="2374920"/>
          </a:xfrm>
          <a:custGeom>
            <a:avLst/>
            <a:gdLst>
              <a:gd name="textAreaLeft" fmla="*/ 229320 w 358920"/>
              <a:gd name="textAreaRight" fmla="*/ 359280 w 358920"/>
              <a:gd name="textAreaTop" fmla="*/ 61920 h 2374920"/>
              <a:gd name="textAreaBottom" fmla="*/ 2313000 h 23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116000" y="4941720"/>
            <a:ext cx="863640" cy="216000"/>
          </a:xfrm>
          <a:custGeom>
            <a:avLst/>
            <a:gdLst>
              <a:gd name="textAreaLeft" fmla="*/ 135000 w 863640"/>
              <a:gd name="textAreaRight" fmla="*/ 756000 w 86364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1166760" y="2390760"/>
            <a:ext cx="2325240" cy="822240"/>
            <a:chOff x="1166760" y="2390760"/>
            <a:chExt cx="2325240" cy="822240"/>
          </a:xfrm>
        </p:grpSpPr>
        <p:sp>
          <p:nvSpPr>
            <p:cNvPr id="343" name=""/>
            <p:cNvSpPr/>
            <p:nvPr/>
          </p:nvSpPr>
          <p:spPr>
            <a:xfrm>
              <a:off x="1166760" y="2751120"/>
              <a:ext cx="21564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0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b10"/>
                </a:rPr>
                <a:t>"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383840" y="2639880"/>
              <a:ext cx="1555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83840" y="2857320"/>
              <a:ext cx="12348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6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72920" y="2782800"/>
              <a:ext cx="31860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5040" bIns="-108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55680" y="2390760"/>
              <a:ext cx="204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3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55680" y="2828880"/>
              <a:ext cx="204120" cy="0"/>
            </a:xfrm>
            <a:prstGeom prst="line">
              <a:avLst/>
            </a:prstGeom>
            <a:ln w="16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155680" y="2949480"/>
              <a:ext cx="204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3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r10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477880" y="2647800"/>
              <a:ext cx="1137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90560" y="2755800"/>
              <a:ext cx="20448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6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95400" y="2755800"/>
              <a:ext cx="2041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6040" bIns="79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r10"/>
                </a:rPr>
                <a:t>g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74760" y="2647800"/>
              <a:ext cx="2613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bx10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336480" y="2627280"/>
              <a:ext cx="155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04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36480" y="2857320"/>
              <a:ext cx="12348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6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66760" y="2390760"/>
              <a:ext cx="2323800" cy="8222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003640" y="2629080"/>
            <a:ext cx="2014560" cy="368280"/>
            <a:chOff x="5003640" y="2629080"/>
            <a:chExt cx="2014560" cy="368280"/>
          </a:xfrm>
        </p:grpSpPr>
        <p:sp>
          <p:nvSpPr>
            <p:cNvPr id="358" name=""/>
            <p:cNvSpPr/>
            <p:nvPr/>
          </p:nvSpPr>
          <p:spPr>
            <a:xfrm>
              <a:off x="5003640" y="2629080"/>
              <a:ext cx="2732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7280" bIns="79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b10"/>
                </a:rPr>
                <a:t>¯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91280" y="2800440"/>
              <a:ext cx="125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553000" y="2765520"/>
              <a:ext cx="32220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-108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89680" y="2629080"/>
              <a:ext cx="11412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7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l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05600" y="2738520"/>
              <a:ext cx="206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o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311880" y="2738520"/>
              <a:ext cx="2062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79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g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94480" y="2733840"/>
              <a:ext cx="2840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b10"/>
                </a:rPr>
                <a:t>¾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92920" y="2800440"/>
              <a:ext cx="1252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03640" y="2629080"/>
              <a:ext cx="2014560" cy="3682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2844720" y="3357720"/>
            <a:ext cx="3079800" cy="1074600"/>
            <a:chOff x="2844720" y="3357720"/>
            <a:chExt cx="3079800" cy="1074600"/>
          </a:xfrm>
        </p:grpSpPr>
        <p:sp>
          <p:nvSpPr>
            <p:cNvPr id="368" name=""/>
            <p:cNvSpPr/>
            <p:nvPr/>
          </p:nvSpPr>
          <p:spPr>
            <a:xfrm>
              <a:off x="2844720" y="3753000"/>
              <a:ext cx="27612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b10"/>
                </a:rPr>
                <a:t>¯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35240" y="3965760"/>
              <a:ext cx="1270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9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398760" y="3889440"/>
              <a:ext cx="3254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-111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40120" y="3862440"/>
              <a:ext cx="21600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928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%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06880" y="3470400"/>
              <a:ext cx="2221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@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438440" y="3359160"/>
              <a:ext cx="2095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^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352760" y="3470400"/>
              <a:ext cx="2732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Ã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40040" y="3446640"/>
              <a:ext cx="1620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2480" bIns="102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02040" y="3573720"/>
              <a:ext cx="2206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b10"/>
                </a:rPr>
                <a:t>"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22720" y="3481560"/>
              <a:ext cx="15876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22720" y="3683160"/>
              <a:ext cx="1270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9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03800" y="3716640"/>
              <a:ext cx="1159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284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89560" y="3470400"/>
              <a:ext cx="212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b10"/>
                </a:rPr>
                <a:t>»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4920" y="3681720"/>
              <a:ext cx="1270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9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61080" y="3446640"/>
              <a:ext cx="1616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2480" bIns="102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06880" y="3937320"/>
              <a:ext cx="1817640" cy="0"/>
            </a:xfrm>
            <a:prstGeom prst="line">
              <a:avLst/>
            </a:prstGeom>
            <a:ln w="16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692600" y="4040280"/>
              <a:ext cx="22212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@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37040" y="4143600"/>
              <a:ext cx="2206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b10"/>
                </a:rPr>
                <a:t>"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59160" y="4059360"/>
              <a:ext cx="15876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159160" y="4253040"/>
              <a:ext cx="1270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9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44720" y="3357720"/>
              <a:ext cx="3079800" cy="10731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844720" y="4581360"/>
            <a:ext cx="3127320" cy="806400"/>
            <a:chOff x="2844720" y="4581360"/>
            <a:chExt cx="3127320" cy="806400"/>
          </a:xfrm>
        </p:grpSpPr>
        <p:sp>
          <p:nvSpPr>
            <p:cNvPr id="390" name=""/>
            <p:cNvSpPr/>
            <p:nvPr/>
          </p:nvSpPr>
          <p:spPr>
            <a:xfrm>
              <a:off x="2844720" y="4906800"/>
              <a:ext cx="1857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b10"/>
                </a:rPr>
                <a:t>"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30480" y="4813200"/>
              <a:ext cx="13320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mmi7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30480" y="4998960"/>
              <a:ext cx="1062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04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mmi7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277800" y="4935240"/>
              <a:ext cx="2732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-921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47880" y="4906800"/>
              <a:ext cx="18576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b10"/>
                </a:rPr>
                <a:t>"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33640" y="4789080"/>
              <a:ext cx="13320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mmi7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5400" y="4867200"/>
              <a:ext cx="8244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000" bIns="47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mmi7"/>
                </a:rPr>
                <a:t>;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49640" y="4743360"/>
              <a:ext cx="10620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04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mmi7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154400" y="4789080"/>
              <a:ext cx="12996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mmi7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33640" y="4997160"/>
              <a:ext cx="1062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0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mmi7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87680" y="4858920"/>
              <a:ext cx="27288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284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sy10"/>
                </a:rPr>
                <a:t>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38320" y="4824000"/>
              <a:ext cx="29232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r10"/>
                </a:rPr>
                <a:t>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30640" y="4819320"/>
              <a:ext cx="204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3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33680" y="4963680"/>
              <a:ext cx="1065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0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mmi7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78120" y="4582800"/>
              <a:ext cx="1857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3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@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684760" y="4582800"/>
              <a:ext cx="17136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3000" bIns="66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00360" y="4974840"/>
              <a:ext cx="571680" cy="0"/>
            </a:xfrm>
            <a:prstGeom prst="line">
              <a:avLst/>
            </a:prstGeom>
            <a:ln w="14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00360" y="5059080"/>
              <a:ext cx="1857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3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@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05200" y="5059080"/>
              <a:ext cx="2318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3000" bIns="66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b10"/>
                </a:rPr>
                <a:t>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848200" y="5236920"/>
              <a:ext cx="1062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0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mmi7"/>
                </a:rPr>
                <a:t>t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44720" y="4581360"/>
              <a:ext cx="3127320" cy="8064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800440" y="5805360"/>
            <a:ext cx="6014880" cy="385920"/>
            <a:chOff x="2800440" y="5805360"/>
            <a:chExt cx="6014880" cy="385920"/>
          </a:xfrm>
        </p:grpSpPr>
        <p:sp>
          <p:nvSpPr>
            <p:cNvPr id="412" name=""/>
            <p:cNvSpPr/>
            <p:nvPr/>
          </p:nvSpPr>
          <p:spPr>
            <a:xfrm>
              <a:off x="2800440" y="5827680"/>
              <a:ext cx="18900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6760" bIns="74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mmi10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29040" y="5805360"/>
              <a:ext cx="149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95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79880" y="5827680"/>
              <a:ext cx="25380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6760" bIns="74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mmib10"/>
                </a:rPr>
                <a:t>¯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446640" y="6022800"/>
              <a:ext cx="1159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7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83080" y="6054840"/>
              <a:ext cx="1062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9600" bIns="74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54440" y="5827680"/>
              <a:ext cx="19548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6760" bIns="74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mmib10"/>
                </a:rPr>
                <a:t>»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60720" y="6022800"/>
              <a:ext cx="1159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7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97520" y="5805360"/>
              <a:ext cx="149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95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53120" y="5850000"/>
              <a:ext cx="2998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50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msy10"/>
                </a:rPr>
                <a:t>·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61000" y="5846760"/>
              <a:ext cx="1922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53240" y="6054840"/>
              <a:ext cx="10620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9600" bIns="74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381640" y="5832360"/>
              <a:ext cx="3207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2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mr10"/>
                </a:rPr>
                <a:t>¢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702400" y="5827680"/>
              <a:ext cx="2253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6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mmi10"/>
                </a:rPr>
                <a:t>¸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926320" y="5987880"/>
              <a:ext cx="1159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7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168960" y="5850000"/>
              <a:ext cx="3002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507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msy10"/>
                </a:rPr>
                <a:t>¸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575400" y="5846760"/>
              <a:ext cx="1922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769080" y="6054840"/>
              <a:ext cx="106560" cy="11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9600" bIns="74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196040" y="5827680"/>
              <a:ext cx="189000" cy="34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6760" bIns="74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mmi10"/>
                </a:rPr>
                <a:t>f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26440" y="5832360"/>
              <a:ext cx="3207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2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mr10"/>
                </a:rPr>
                <a:t>¢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748640" y="5827680"/>
              <a:ext cx="2253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6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mmi10"/>
                </a:rPr>
                <a:t>¸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972560" y="5987880"/>
              <a:ext cx="11592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cmmi7"/>
                </a:rPr>
                <a:t>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215560" y="5952960"/>
              <a:ext cx="29988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0720" bIns="-101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621640" y="5846760"/>
              <a:ext cx="1922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7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800440" y="5805360"/>
              <a:ext cx="6014880" cy="385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906560" y="4005360"/>
            <a:ext cx="3960720" cy="20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Drucker-Prager Model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ield Cond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908000" y="2349360"/>
            <a:ext cx="4822560" cy="662040"/>
            <a:chOff x="1908000" y="2349360"/>
            <a:chExt cx="4822560" cy="662040"/>
          </a:xfrm>
        </p:grpSpPr>
        <p:sp>
          <p:nvSpPr>
            <p:cNvPr id="440" name=""/>
            <p:cNvSpPr/>
            <p:nvPr/>
          </p:nvSpPr>
          <p:spPr>
            <a:xfrm>
              <a:off x="1908000" y="2535120"/>
              <a:ext cx="1792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4160" bIns="71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mi10"/>
                </a:rPr>
                <a:t>f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28680" y="2514600"/>
              <a:ext cx="142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680" bIns="90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71600" y="2627280"/>
              <a:ext cx="2523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2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mib10"/>
                </a:rPr>
                <a:t>¾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536560" y="2514600"/>
              <a:ext cx="142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680" bIns="90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82800" y="2655720"/>
              <a:ext cx="28548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5680" bIns="-954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69800" y="2514600"/>
              <a:ext cx="101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680" bIns="90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71680" y="2514600"/>
              <a:ext cx="101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680" bIns="90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74640" y="2627280"/>
              <a:ext cx="16668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2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bx10"/>
                </a:rPr>
                <a:t>s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41320" y="2514600"/>
              <a:ext cx="10188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680" bIns="90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643200" y="2514600"/>
              <a:ext cx="1015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680" bIns="90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27160" y="2574720"/>
              <a:ext cx="2858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4200" bIns="30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</a:rPr>
                <a:t>+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195440" y="2627280"/>
              <a:ext cx="2253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2000" bIns="712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mib10"/>
                </a:rPr>
                <a:t>½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81280" y="2563560"/>
              <a:ext cx="14292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</a:rPr>
                <a:t>t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624200" y="2631960"/>
              <a:ext cx="14436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73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</a:rPr>
                <a:t>r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768560" y="2514600"/>
              <a:ext cx="142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680" bIns="90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911480" y="2627280"/>
              <a:ext cx="25236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2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mib10"/>
                </a:rPr>
                <a:t>¾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76440" y="2514600"/>
              <a:ext cx="14292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74680" bIns="90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02160" y="2574720"/>
              <a:ext cx="2854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4200" bIns="30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sy10"/>
                </a:rPr>
                <a:t>¡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768640" y="2349360"/>
              <a:ext cx="368280" cy="66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040" bIns="6458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ex10"/>
                </a:rPr>
                <a:t>q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36920" y="2355840"/>
              <a:ext cx="235080" cy="0"/>
            </a:xfrm>
            <a:prstGeom prst="line">
              <a:avLst/>
            </a:prstGeom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81560" y="2477880"/>
              <a:ext cx="1458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r7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181560" y="2697120"/>
              <a:ext cx="145800" cy="0"/>
            </a:xfrm>
            <a:prstGeom prst="line">
              <a:avLst/>
            </a:prstGeom>
            <a:ln w="14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81560" y="2749320"/>
              <a:ext cx="14580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52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r7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372000" y="2631960"/>
              <a:ext cx="20952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73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mmi10"/>
                </a:rPr>
                <a:t>¾</a:t>
              </a: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81520" y="2733480"/>
              <a:ext cx="1490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9440" bIns="49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7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08000" y="2349360"/>
              <a:ext cx="4822560" cy="6620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2050920" y="6021360"/>
            <a:ext cx="5689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4788000" y="3429000"/>
            <a:ext cx="645840" cy="412920"/>
            <a:chOff x="4788000" y="3429000"/>
            <a:chExt cx="645840" cy="412920"/>
          </a:xfrm>
        </p:grpSpPr>
        <p:sp>
          <p:nvSpPr>
            <p:cNvPr id="468" name=""/>
            <p:cNvSpPr/>
            <p:nvPr/>
          </p:nvSpPr>
          <p:spPr>
            <a:xfrm>
              <a:off x="4788000" y="3430440"/>
              <a:ext cx="1141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07800" bIns="101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02120" y="3430440"/>
              <a:ext cx="1137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07800" bIns="101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17680" y="3556080"/>
              <a:ext cx="18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bx10"/>
                </a:rPr>
                <a:t>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05240" y="3430440"/>
              <a:ext cx="11376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07800" bIns="101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19360" y="3430440"/>
              <a:ext cx="1141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07800" bIns="101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88000" y="3429000"/>
              <a:ext cx="645840" cy="4129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7885080" y="5877000"/>
            <a:ext cx="289080" cy="290520"/>
            <a:chOff x="7885080" y="5877000"/>
            <a:chExt cx="289080" cy="290520"/>
          </a:xfrm>
        </p:grpSpPr>
        <p:sp>
          <p:nvSpPr>
            <p:cNvPr id="475" name=""/>
            <p:cNvSpPr/>
            <p:nvPr/>
          </p:nvSpPr>
          <p:spPr>
            <a:xfrm>
              <a:off x="7885080" y="5878440"/>
              <a:ext cx="1508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6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bx10"/>
                </a:rPr>
                <a:t>I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35920" y="6012000"/>
              <a:ext cx="13824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885080" y="5877000"/>
              <a:ext cx="289080" cy="2887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908000" y="4005360"/>
            <a:ext cx="3959280" cy="2016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4643280" y="3428640"/>
            <a:ext cx="0" cy="2879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pa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ick/Sl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Coulomb Friction (Bed Friction)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2" name=""/>
          <p:cNvSpPr/>
          <p:nvPr/>
        </p:nvSpPr>
        <p:spPr>
          <a:xfrm>
            <a:off x="5219640" y="4149720"/>
            <a:ext cx="338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6877080" y="2637000"/>
            <a:ext cx="1224000" cy="151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651640" y="364500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580000" y="3460680"/>
            <a:ext cx="215640" cy="150840"/>
            <a:chOff x="5580000" y="3460680"/>
            <a:chExt cx="215640" cy="150840"/>
          </a:xfrm>
        </p:grpSpPr>
        <p:sp>
          <p:nvSpPr>
            <p:cNvPr id="486" name=""/>
            <p:cNvSpPr/>
            <p:nvPr/>
          </p:nvSpPr>
          <p:spPr>
            <a:xfrm>
              <a:off x="5580000" y="3460680"/>
              <a:ext cx="2156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94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80000" y="3460680"/>
              <a:ext cx="215640" cy="1508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4427640" y="4940280"/>
            <a:ext cx="431640" cy="1152720"/>
          </a:xfrm>
          <a:custGeom>
            <a:avLst/>
            <a:gdLst>
              <a:gd name="textAreaLeft" fmla="*/ 275760 w 431640"/>
              <a:gd name="textAreaRight" fmla="*/ 432000 w 43164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5076720" y="4869000"/>
            <a:ext cx="720720" cy="360360"/>
            <a:chOff x="5076720" y="4869000"/>
            <a:chExt cx="720720" cy="360360"/>
          </a:xfrm>
        </p:grpSpPr>
        <p:sp>
          <p:nvSpPr>
            <p:cNvPr id="490" name=""/>
            <p:cNvSpPr/>
            <p:nvPr/>
          </p:nvSpPr>
          <p:spPr>
            <a:xfrm>
              <a:off x="5076720" y="4873680"/>
              <a:ext cx="36036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93760" bIns="619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msy10"/>
                </a:rPr>
                <a:t>·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565600" y="4870440"/>
              <a:ext cx="231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97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076720" y="4869000"/>
              <a:ext cx="718920" cy="3603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5148360" y="5805360"/>
            <a:ext cx="720720" cy="316080"/>
            <a:chOff x="5148360" y="5805360"/>
            <a:chExt cx="720720" cy="316080"/>
          </a:xfrm>
        </p:grpSpPr>
        <p:sp>
          <p:nvSpPr>
            <p:cNvPr id="494" name=""/>
            <p:cNvSpPr/>
            <p:nvPr/>
          </p:nvSpPr>
          <p:spPr>
            <a:xfrm>
              <a:off x="5148360" y="5854680"/>
              <a:ext cx="36036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9120" bIns="17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mmi10"/>
                </a:rPr>
                <a:t>&gt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637240" y="5806800"/>
              <a:ext cx="231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97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148360" y="5805360"/>
              <a:ext cx="718920" cy="3160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6372360" y="477216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372360" y="56466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7688160" y="4149720"/>
            <a:ext cx="1238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7753320" y="4149720"/>
            <a:ext cx="1238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7848720" y="4149720"/>
            <a:ext cx="1238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7913520" y="4149720"/>
            <a:ext cx="1238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861320" y="4195800"/>
            <a:ext cx="60480" cy="2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831080" y="4245120"/>
            <a:ext cx="60480" cy="25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1390680" y="5245200"/>
            <a:ext cx="2898720" cy="414360"/>
            <a:chOff x="1390680" y="5245200"/>
            <a:chExt cx="2898720" cy="414360"/>
          </a:xfrm>
        </p:grpSpPr>
        <p:sp>
          <p:nvSpPr>
            <p:cNvPr id="506" name=""/>
            <p:cNvSpPr/>
            <p:nvPr/>
          </p:nvSpPr>
          <p:spPr>
            <a:xfrm>
              <a:off x="1390680" y="5274000"/>
              <a:ext cx="298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26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sy10"/>
                </a:rPr>
                <a:t>F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46080" y="5405760"/>
              <a:ext cx="32220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-108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284200" y="5245200"/>
              <a:ext cx="11592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1040" bIns="103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398680" y="5245200"/>
              <a:ext cx="11592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1040" bIns="103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514600" y="5268960"/>
              <a:ext cx="203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7280" bIns="79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f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717640" y="5496120"/>
              <a:ext cx="1573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3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894040" y="5245200"/>
              <a:ext cx="11592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1040" bIns="103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009960" y="5245200"/>
              <a:ext cx="1155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1040" bIns="103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sy10"/>
                </a:rPr>
                <a:t>j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217680" y="5315040"/>
              <a:ext cx="32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1200" bIns="3348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sy10"/>
                </a:rPr>
                <a:t>¡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632040" y="5378760"/>
              <a:ext cx="2491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7840" bIns="79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¹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81160" y="5268960"/>
              <a:ext cx="203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7280" bIns="79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f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84560" y="5496120"/>
              <a:ext cx="20484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3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90680" y="5245200"/>
              <a:ext cx="2898720" cy="4143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6842160" y="4124160"/>
            <a:ext cx="73080" cy="730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07160" y="418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8088480" y="2276640"/>
            <a:ext cx="291600" cy="301320"/>
            <a:chOff x="8088480" y="2276640"/>
            <a:chExt cx="291600" cy="301320"/>
          </a:xfrm>
        </p:grpSpPr>
        <p:sp>
          <p:nvSpPr>
            <p:cNvPr id="522" name=""/>
            <p:cNvSpPr/>
            <p:nvPr/>
          </p:nvSpPr>
          <p:spPr>
            <a:xfrm>
              <a:off x="8088480" y="2277720"/>
              <a:ext cx="12528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588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253360" y="2408040"/>
              <a:ext cx="126720" cy="16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9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088480" y="2276640"/>
              <a:ext cx="290160" cy="3013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1619280" y="2558880"/>
            <a:ext cx="2665440" cy="365040"/>
            <a:chOff x="1619280" y="2558880"/>
            <a:chExt cx="2665440" cy="365040"/>
          </a:xfrm>
        </p:grpSpPr>
        <p:sp>
          <p:nvSpPr>
            <p:cNvPr id="526" name=""/>
            <p:cNvSpPr/>
            <p:nvPr/>
          </p:nvSpPr>
          <p:spPr>
            <a:xfrm>
              <a:off x="1619280" y="2560680"/>
              <a:ext cx="201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040" bIns="792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819080" y="2782800"/>
              <a:ext cx="20340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3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57480" y="2693880"/>
              <a:ext cx="31896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-108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592360" y="2560680"/>
              <a:ext cx="1443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781360" y="2711160"/>
              <a:ext cx="14580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5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I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60720" y="2662200"/>
              <a:ext cx="114120" cy="1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0200" bIns="-44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sy10"/>
                </a:rPr>
                <a:t>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267000" y="2662200"/>
              <a:ext cx="2620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2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bx10"/>
                </a:rPr>
                <a:t>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43200" y="2624040"/>
              <a:ext cx="31896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0680" bIns="158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mi10"/>
                </a:rPr>
                <a:t>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078080" y="2581200"/>
              <a:ext cx="20664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3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619280" y="2558880"/>
              <a:ext cx="2665440" cy="3650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Dynamic Grid Generation/Destruction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2031840"/>
            <a:ext cx="8229600" cy="44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ells are created only when particles exist within the inside an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mpty cells are destroy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ox type cell is used with a specified grid dimen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lgorithm improves efficiency in modeling as well as computation stag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324000" y="907920"/>
            <a:ext cx="8820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23428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24000" y="907920"/>
            <a:ext cx="8820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3778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6" dur="1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Landslide Simulation Test Case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750680"/>
            <a:ext cx="822960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nd Column Collap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9536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y sa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90440" indent="-41904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sure dependent shear str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0440" indent="-41904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 to no (hydrostatic) tensile str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090440" indent="-41904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olume di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9536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aded by grav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9536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dden change in boundary cond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324000" y="1081080"/>
            <a:ext cx="8820000" cy="558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356000" y="906480"/>
            <a:ext cx="4797360" cy="5186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4876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545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545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3" dur="1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395280" y="907920"/>
            <a:ext cx="8424720" cy="568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900000" y="49320"/>
            <a:ext cx="7750440" cy="67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USGS Flume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3494160" cy="537984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932000" y="1600200"/>
            <a:ext cx="3754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95 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1</a:t>
            </a:r>
            <a:r>
              <a:rPr b="0" lang="en-US" sz="2800" spc="-1" strike="noStrike" baseline="6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long upper 85 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m wi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*1.2m dee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Outline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457200" y="1838160"/>
            <a:ext cx="822960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eling Ingred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d column collap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nnel F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00"/>
              </a:spcBef>
              <a:spcAft>
                <a:spcPts val="349"/>
              </a:spcAft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 and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spcAft>
                <a:spcPts val="400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mmary and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Flume Experiment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543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9" dur="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Debris Flow in Channel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out obsta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455760" y="457200"/>
            <a:ext cx="8076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0" dur="1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5724360" y="3068640"/>
            <a:ext cx="2663640" cy="2438280"/>
            <a:chOff x="5724360" y="3068640"/>
            <a:chExt cx="2663640" cy="2438280"/>
          </a:xfrm>
        </p:grpSpPr>
        <p:graphicFrame>
          <p:nvGraphicFramePr>
            <p:cNvPr id="558" name=""/>
            <p:cNvGraphicFramePr/>
            <p:nvPr/>
          </p:nvGraphicFramePr>
          <p:xfrm>
            <a:off x="5724360" y="3068640"/>
            <a:ext cx="2656080" cy="2438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24360" y="3068640"/>
                      <a:ext cx="2656080" cy="24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 flipH="1">
              <a:off x="7308360" y="3141720"/>
              <a:ext cx="1079640" cy="2303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8243640" y="3141720"/>
              <a:ext cx="144360" cy="115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24360" y="3645000"/>
              <a:ext cx="1584360" cy="180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24360" y="3645000"/>
              <a:ext cx="2519640" cy="6476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Study on Protective Structure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rri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>
            <a:off x="826920" y="4076640"/>
            <a:ext cx="935280" cy="10800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763720" y="5624640"/>
            <a:ext cx="935280" cy="46836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4"/>
          <p:cNvSpPr/>
          <p:nvPr/>
        </p:nvSpPr>
        <p:spPr>
          <a:xfrm>
            <a:off x="2411280" y="23493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w 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900000" y="4143240"/>
            <a:ext cx="792000" cy="398520"/>
            <a:chOff x="900000" y="4143240"/>
            <a:chExt cx="792000" cy="398520"/>
          </a:xfrm>
        </p:grpSpPr>
        <p:sp>
          <p:nvSpPr>
            <p:cNvPr id="570" name=""/>
            <p:cNvSpPr/>
            <p:nvPr/>
          </p:nvSpPr>
          <p:spPr>
            <a:xfrm>
              <a:off x="900000" y="4143240"/>
              <a:ext cx="0" cy="215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92000" y="432576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00000" y="4227120"/>
              <a:ext cx="792000" cy="21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900000" y="44308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844720" y="6054840"/>
            <a:ext cx="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637080" y="623736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844720" y="6138720"/>
            <a:ext cx="792360" cy="2113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773440" y="63468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3648240" y="4724280"/>
            <a:ext cx="1643040" cy="1619280"/>
            <a:chOff x="3648240" y="4724280"/>
            <a:chExt cx="1643040" cy="1619280"/>
          </a:xfrm>
        </p:grpSpPr>
        <p:sp>
          <p:nvSpPr>
            <p:cNvPr id="579" name=""/>
            <p:cNvSpPr/>
            <p:nvPr/>
          </p:nvSpPr>
          <p:spPr>
            <a:xfrm>
              <a:off x="5148360" y="4724280"/>
              <a:ext cx="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3648240" y="4830840"/>
              <a:ext cx="1513080" cy="151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572360" y="558972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4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3230640" y="3068640"/>
            <a:ext cx="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1704960" y="3187440"/>
            <a:ext cx="1513080" cy="1261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484360" y="371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4"/>
          <p:cNvSpPr/>
          <p:nvPr/>
        </p:nvSpPr>
        <p:spPr>
          <a:xfrm>
            <a:off x="3851280" y="37828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gh 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4"/>
          <p:cNvSpPr/>
          <p:nvPr/>
        </p:nvSpPr>
        <p:spPr>
          <a:xfrm>
            <a:off x="6227640" y="23493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rtial 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11280" y="397188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11280" y="40766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9560" y="361152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09560" y="408924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79280" y="320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.12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556000" y="555624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56000" y="5927760"/>
            <a:ext cx="21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652840" y="5564160"/>
            <a:ext cx="0" cy="360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70040" y="55576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0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7392960" y="4352760"/>
            <a:ext cx="936720" cy="1224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308720" y="5564160"/>
            <a:ext cx="14292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282160" y="4305240"/>
            <a:ext cx="142560" cy="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812000" y="4869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8434440" y="3141720"/>
            <a:ext cx="144360" cy="1089720"/>
            <a:chOff x="8434440" y="3141720"/>
            <a:chExt cx="144360" cy="1089720"/>
          </a:xfrm>
        </p:grpSpPr>
        <p:sp>
          <p:nvSpPr>
            <p:cNvPr id="601" name=""/>
            <p:cNvSpPr/>
            <p:nvPr/>
          </p:nvSpPr>
          <p:spPr>
            <a:xfrm>
              <a:off x="8434440" y="314172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434440" y="423144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8498880" y="3164760"/>
              <a:ext cx="0" cy="1056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8389800" y="3500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7308720" y="4292280"/>
            <a:ext cx="93528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5724360" y="3141720"/>
            <a:ext cx="2664000" cy="503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Study on Protective Structure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347760" y="152280"/>
            <a:ext cx="868824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6" dur="1" fill="hold"/>
                                        <p:tgtEl>
                                          <p:spTgt spid="6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455760" y="457200"/>
            <a:ext cx="8076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2" dur="1" fill="hold"/>
                                        <p:tgtEl>
                                          <p:spTgt spid="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324000" y="981000"/>
            <a:ext cx="8820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19"/>
          <p:cNvSpPr/>
          <p:nvPr/>
        </p:nvSpPr>
        <p:spPr>
          <a:xfrm>
            <a:off x="685800" y="838080"/>
            <a:ext cx="77724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Debris Flow in a Channel (2.5 seconds)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13" name="Picture 11" descr="wide-26.tif"/>
          <p:cNvPicPr/>
          <p:nvPr/>
        </p:nvPicPr>
        <p:blipFill>
          <a:blip r:embed="rId1"/>
          <a:srcRect l="4412" t="5890" r="55890" b="54860"/>
          <a:stretch/>
        </p:blipFill>
        <p:spPr>
          <a:xfrm>
            <a:off x="4876920" y="3699000"/>
            <a:ext cx="3565440" cy="264132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12" descr="wedge-26.tif"/>
          <p:cNvPicPr/>
          <p:nvPr/>
        </p:nvPicPr>
        <p:blipFill>
          <a:blip r:embed="rId2"/>
          <a:srcRect l="6662" t="6670" r="55028" b="55528"/>
          <a:stretch/>
        </p:blipFill>
        <p:spPr>
          <a:xfrm>
            <a:off x="685800" y="3699000"/>
            <a:ext cx="3402000" cy="25146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3" descr="woBarrier-26.tif"/>
          <p:cNvPicPr/>
          <p:nvPr/>
        </p:nvPicPr>
        <p:blipFill>
          <a:blip r:embed="rId3"/>
          <a:srcRect l="5876" t="7844" r="52987" b="52934"/>
          <a:stretch/>
        </p:blipFill>
        <p:spPr>
          <a:xfrm>
            <a:off x="838080" y="1488960"/>
            <a:ext cx="3429000" cy="24498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16" descr="low-26.tif"/>
          <p:cNvPicPr/>
          <p:nvPr/>
        </p:nvPicPr>
        <p:blipFill>
          <a:blip r:embed="rId4"/>
          <a:srcRect l="6026" t="8044" r="55424" b="54971"/>
          <a:stretch/>
        </p:blipFill>
        <p:spPr>
          <a:xfrm>
            <a:off x="4952880" y="1413000"/>
            <a:ext cx="3392640" cy="243828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8" descr="low-26.tif"/>
          <p:cNvPicPr/>
          <p:nvPr/>
        </p:nvPicPr>
        <p:blipFill>
          <a:blip r:embed="rId5"/>
          <a:srcRect l="0" t="53077" r="85546" b="11544"/>
          <a:stretch/>
        </p:blipFill>
        <p:spPr>
          <a:xfrm>
            <a:off x="4038480" y="4613400"/>
            <a:ext cx="914400" cy="1676160"/>
          </a:xfrm>
          <a:prstGeom prst="rect">
            <a:avLst/>
          </a:prstGeom>
          <a:ln w="0">
            <a:noFill/>
          </a:ln>
        </p:spPr>
      </p:pic>
      <p:sp>
        <p:nvSpPr>
          <p:cNvPr id="618" name="TextBox 10"/>
          <p:cNvSpPr/>
          <p:nvPr/>
        </p:nvSpPr>
        <p:spPr>
          <a:xfrm>
            <a:off x="2666880" y="126216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ee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Box 14"/>
          <p:cNvSpPr/>
          <p:nvPr/>
        </p:nvSpPr>
        <p:spPr>
          <a:xfrm>
            <a:off x="7010280" y="13334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w 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15"/>
          <p:cNvSpPr/>
          <p:nvPr/>
        </p:nvSpPr>
        <p:spPr>
          <a:xfrm>
            <a:off x="7162920" y="3998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gh 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17"/>
          <p:cNvSpPr/>
          <p:nvPr/>
        </p:nvSpPr>
        <p:spPr>
          <a:xfrm>
            <a:off x="2666880" y="39225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rtial 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324000" y="981000"/>
            <a:ext cx="864072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7"/>
          <p:cNvSpPr/>
          <p:nvPr/>
        </p:nvSpPr>
        <p:spPr>
          <a:xfrm>
            <a:off x="685800" y="838080"/>
            <a:ext cx="75438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Debris Flow in a Channel (3.5 seconds)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25" name="Picture 13" descr="wide-36.tif"/>
          <p:cNvPicPr/>
          <p:nvPr/>
        </p:nvPicPr>
        <p:blipFill>
          <a:blip r:embed="rId1"/>
          <a:srcRect l="13334" t="15517" r="44169" b="44439"/>
          <a:stretch/>
        </p:blipFill>
        <p:spPr>
          <a:xfrm>
            <a:off x="4875120" y="3867120"/>
            <a:ext cx="3238560" cy="22860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14" descr="low-36.tif"/>
          <p:cNvPicPr/>
          <p:nvPr/>
        </p:nvPicPr>
        <p:blipFill>
          <a:blip r:embed="rId2"/>
          <a:srcRect l="13362" t="15550" r="42476" b="43293"/>
          <a:stretch/>
        </p:blipFill>
        <p:spPr>
          <a:xfrm>
            <a:off x="4875120" y="1352520"/>
            <a:ext cx="3165480" cy="220968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5" descr="wedge-36.tif"/>
          <p:cNvPicPr/>
          <p:nvPr/>
        </p:nvPicPr>
        <p:blipFill>
          <a:blip r:embed="rId3"/>
          <a:srcRect l="13387" t="15587" r="43282" b="37695"/>
          <a:stretch/>
        </p:blipFill>
        <p:spPr>
          <a:xfrm>
            <a:off x="684360" y="3735360"/>
            <a:ext cx="3276360" cy="26463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16" descr="woBarrier-36.tif"/>
          <p:cNvPicPr/>
          <p:nvPr/>
        </p:nvPicPr>
        <p:blipFill>
          <a:blip r:embed="rId4"/>
          <a:srcRect l="13414" t="15619" r="39089" b="39886"/>
          <a:stretch/>
        </p:blipFill>
        <p:spPr>
          <a:xfrm>
            <a:off x="684360" y="1352520"/>
            <a:ext cx="3365280" cy="23623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11" descr="low-26.tif"/>
          <p:cNvPicPr/>
          <p:nvPr/>
        </p:nvPicPr>
        <p:blipFill>
          <a:blip r:embed="rId5"/>
          <a:srcRect l="0" t="53077" r="85546" b="11544"/>
          <a:stretch/>
        </p:blipFill>
        <p:spPr>
          <a:xfrm>
            <a:off x="4037040" y="4476600"/>
            <a:ext cx="914400" cy="1676520"/>
          </a:xfrm>
          <a:prstGeom prst="rect">
            <a:avLst/>
          </a:prstGeom>
          <a:ln w="0">
            <a:noFill/>
          </a:ln>
        </p:spPr>
      </p:pic>
      <p:sp>
        <p:nvSpPr>
          <p:cNvPr id="630" name="TextBox 10"/>
          <p:cNvSpPr/>
          <p:nvPr/>
        </p:nvSpPr>
        <p:spPr>
          <a:xfrm>
            <a:off x="2131920" y="142884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ee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12"/>
          <p:cNvSpPr/>
          <p:nvPr/>
        </p:nvSpPr>
        <p:spPr>
          <a:xfrm>
            <a:off x="6475320" y="1352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w 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18"/>
          <p:cNvSpPr/>
          <p:nvPr/>
        </p:nvSpPr>
        <p:spPr>
          <a:xfrm>
            <a:off x="6627960" y="3943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gh 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19"/>
          <p:cNvSpPr/>
          <p:nvPr/>
        </p:nvSpPr>
        <p:spPr>
          <a:xfrm>
            <a:off x="2131920" y="3867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rtial 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324000" y="981000"/>
            <a:ext cx="8820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8" descr="low-51.tif"/>
          <p:cNvPicPr/>
          <p:nvPr/>
        </p:nvPicPr>
        <p:blipFill>
          <a:blip r:embed="rId1"/>
          <a:srcRect l="27159" t="27636" r="0" b="0"/>
          <a:stretch/>
        </p:blipFill>
        <p:spPr>
          <a:xfrm>
            <a:off x="5038560" y="1038240"/>
            <a:ext cx="3657600" cy="272268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9" descr="wedge-51.tif"/>
          <p:cNvPicPr/>
          <p:nvPr/>
        </p:nvPicPr>
        <p:blipFill>
          <a:blip r:embed="rId2"/>
          <a:srcRect l="27104" t="27636" r="0" b="0"/>
          <a:stretch/>
        </p:blipFill>
        <p:spPr>
          <a:xfrm>
            <a:off x="611280" y="3741840"/>
            <a:ext cx="3741480" cy="2782800"/>
          </a:xfrm>
          <a:prstGeom prst="rect">
            <a:avLst/>
          </a:prstGeom>
          <a:ln w="0">
            <a:noFill/>
          </a:ln>
        </p:spPr>
      </p:pic>
      <p:pic>
        <p:nvPicPr>
          <p:cNvPr id="637" name="Content Placeholder 7" descr="wide-51.tif"/>
          <p:cNvPicPr/>
          <p:nvPr/>
        </p:nvPicPr>
        <p:blipFill>
          <a:blip r:embed="rId3"/>
          <a:srcRect l="27410" t="26833" r="0" b="0"/>
          <a:stretch/>
        </p:blipFill>
        <p:spPr>
          <a:xfrm>
            <a:off x="5114880" y="3701880"/>
            <a:ext cx="3637080" cy="27464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10" descr="woBarrier-51.tif"/>
          <p:cNvPicPr/>
          <p:nvPr/>
        </p:nvPicPr>
        <p:blipFill>
          <a:blip r:embed="rId4"/>
          <a:srcRect l="27104" t="27140" r="5136" b="7283"/>
          <a:stretch/>
        </p:blipFill>
        <p:spPr>
          <a:xfrm>
            <a:off x="695160" y="1266840"/>
            <a:ext cx="3468960" cy="251460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Debris Flow in a Channel (5.0 seconds)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40" name="Picture 11" descr="low-26.tif"/>
          <p:cNvPicPr/>
          <p:nvPr/>
        </p:nvPicPr>
        <p:blipFill>
          <a:blip r:embed="rId5"/>
          <a:srcRect l="0" t="53077" r="85546" b="11544"/>
          <a:stretch/>
        </p:blipFill>
        <p:spPr>
          <a:xfrm>
            <a:off x="4124160" y="4467240"/>
            <a:ext cx="914400" cy="1676520"/>
          </a:xfrm>
          <a:prstGeom prst="rect">
            <a:avLst/>
          </a:prstGeom>
          <a:ln w="0">
            <a:noFill/>
          </a:ln>
        </p:spPr>
      </p:pic>
      <p:sp>
        <p:nvSpPr>
          <p:cNvPr id="641" name="TextBox 13"/>
          <p:cNvSpPr/>
          <p:nvPr/>
        </p:nvSpPr>
        <p:spPr>
          <a:xfrm>
            <a:off x="2219400" y="14191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ee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14"/>
          <p:cNvSpPr/>
          <p:nvPr/>
        </p:nvSpPr>
        <p:spPr>
          <a:xfrm>
            <a:off x="6562800" y="13431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w 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15"/>
          <p:cNvSpPr/>
          <p:nvPr/>
        </p:nvSpPr>
        <p:spPr>
          <a:xfrm>
            <a:off x="6781680" y="39258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igh 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16"/>
          <p:cNvSpPr/>
          <p:nvPr/>
        </p:nvSpPr>
        <p:spPr>
          <a:xfrm>
            <a:off x="2286000" y="3854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rtial b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539640" y="3429000"/>
            <a:ext cx="5905440" cy="3095640"/>
            <a:chOff x="539640" y="3429000"/>
            <a:chExt cx="5905440" cy="3095640"/>
          </a:xfrm>
        </p:grpSpPr>
        <p:sp>
          <p:nvSpPr>
            <p:cNvPr id="646" name=""/>
            <p:cNvSpPr/>
            <p:nvPr/>
          </p:nvSpPr>
          <p:spPr>
            <a:xfrm>
              <a:off x="5003640" y="3429000"/>
              <a:ext cx="136872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076720" y="6165720"/>
              <a:ext cx="1368360" cy="28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9640" y="6237360"/>
              <a:ext cx="136836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324000" y="549360"/>
            <a:ext cx="8820000" cy="58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Debris Flow in Channel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Guide D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468360" y="609480"/>
            <a:ext cx="792468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3" dur="1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Erosion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2133720" y="1817640"/>
            <a:ext cx="48765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7840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654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654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4" dur="1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Motivation </a:t>
            </a:r>
            <a:r>
              <a:rPr b="1" i="1" lang="en-US" sz="3600" spc="-1" strike="noStrike">
                <a:solidFill>
                  <a:srgbClr val="999900"/>
                </a:solidFill>
                <a:latin typeface="Garamond"/>
              </a:rPr>
              <a:t>natural </a:t>
            </a: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: Duncan, WA (2006)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9" name="Picture 2" descr="Debris Flows in Berkeley Hills - P03"/>
          <p:cNvPicPr/>
          <p:nvPr/>
        </p:nvPicPr>
        <p:blipFill>
          <a:blip r:embed="rId1"/>
          <a:stretch/>
        </p:blipFill>
        <p:spPr>
          <a:xfrm>
            <a:off x="1230480" y="1700280"/>
            <a:ext cx="7086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Summary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6" name="Rectangle 4"/>
          <p:cNvSpPr/>
          <p:nvPr/>
        </p:nvSpPr>
        <p:spPr>
          <a:xfrm>
            <a:off x="468360" y="1681200"/>
            <a:ext cx="822960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2640" indent="-49500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verning equations are formulated in 3-D and for finite strain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49500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classical return mapping algorithm can be restored for elasto-plasticity at finite strain in principal spa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49500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rucker-Prager model is implemented for granular material behavior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495000">
              <a:lnSpc>
                <a:spcPct val="100000"/>
              </a:lnSpc>
              <a:spcBef>
                <a:spcPts val="975"/>
              </a:spcBef>
              <a:spcAft>
                <a:spcPts val="975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ynamic grid generation/destruction algorithm is crucial for landslide and debris flow simul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Conclusion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457200" y="1825560"/>
            <a:ext cx="8229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2640" indent="-495000">
              <a:lnSpc>
                <a:spcPct val="100000"/>
              </a:lnSpc>
              <a:spcBef>
                <a:spcPts val="814"/>
              </a:spcBef>
              <a:spcAft>
                <a:spcPts val="814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weak barrier can be picked up by a debris flow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495000">
              <a:lnSpc>
                <a:spcPct val="100000"/>
              </a:lnSpc>
              <a:spcBef>
                <a:spcPts val="814"/>
              </a:spcBef>
              <a:spcAft>
                <a:spcPts val="814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cked up material will add mass and energy to a slide increasing velocity and reach of the debris fl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495000">
              <a:lnSpc>
                <a:spcPct val="100000"/>
              </a:lnSpc>
              <a:spcBef>
                <a:spcPts val="814"/>
              </a:spcBef>
              <a:spcAft>
                <a:spcPts val="814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sufficiently stable dam is able to divert and even stop parts of a debris fl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2640" indent="-495000">
              <a:lnSpc>
                <a:spcPct val="100000"/>
              </a:lnSpc>
              <a:spcBef>
                <a:spcPts val="814"/>
              </a:spcBef>
              <a:spcAft>
                <a:spcPts val="814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protective guide dam may suffer from erosion by a passing debris flow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-4789440" y="-100080"/>
            <a:ext cx="16932240" cy="77122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979640" y="3164040"/>
            <a:ext cx="59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Lucida Console"/>
              </a:rPr>
              <a:t>Any Question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2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2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200"/>
                                        <p:tgtEl>
                                          <p:spTgt spid="6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TetonDam"/>
          <p:cNvPicPr/>
          <p:nvPr/>
        </p:nvPicPr>
        <p:blipFill>
          <a:blip r:embed="rId1"/>
          <a:stretch/>
        </p:blipFill>
        <p:spPr>
          <a:xfrm>
            <a:off x="755640" y="1620720"/>
            <a:ext cx="7777080" cy="5193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Motivation </a:t>
            </a:r>
            <a:r>
              <a:rPr b="1" i="1" lang="en-US" sz="4000" spc="-1" strike="noStrike">
                <a:solidFill>
                  <a:srgbClr val="999900"/>
                </a:solidFill>
                <a:latin typeface="Garamond"/>
              </a:rPr>
              <a:t>man-made </a:t>
            </a: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: </a:t>
            </a:r>
            <a:br>
              <a:rPr sz="4000"/>
            </a:b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Teton Dam, ID (1976)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Introduction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gineering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raditional (one-time design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vent failure 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slope stability problem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atic equilibriu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odern (hazard analysis)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 impact on infrastruc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sess affected areas (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non-Newtonian fluid dynamic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022400" indent="-3510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sign structures to protect civil infrastruc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ientific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osion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ape and extent of depos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nal mechanisms of granular 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Modeling Ingredients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spcAft>
                <a:spcPts val="1400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 MPM + Volumetric Strain Averaging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spcAft>
                <a:spcPts val="1400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ite Deformation (3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spcAft>
                <a:spcPts val="1400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ictional Material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spcAft>
                <a:spcPts val="1400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undary Condi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400"/>
              </a:spcBef>
              <a:spcAft>
                <a:spcPts val="1400"/>
              </a:spcAft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id for Unbounded Material M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Kinematics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 rot="21000000">
            <a:off x="1806120" y="2418840"/>
            <a:ext cx="1878120" cy="1949760"/>
          </a:xfrm>
          <a:custGeom>
            <a:avLst/>
            <a:gdLst/>
            <a:ahLst/>
            <a:rect l="l" t="t" r="r" b="b"/>
            <a:pathLst>
              <a:path w="1460" h="1516">
                <a:moveTo>
                  <a:pt x="545" y="85"/>
                </a:moveTo>
                <a:cubicBezTo>
                  <a:pt x="476" y="155"/>
                  <a:pt x="446" y="181"/>
                  <a:pt x="399" y="238"/>
                </a:cubicBezTo>
                <a:cubicBezTo>
                  <a:pt x="352" y="295"/>
                  <a:pt x="296" y="372"/>
                  <a:pt x="261" y="430"/>
                </a:cubicBezTo>
                <a:cubicBezTo>
                  <a:pt x="226" y="488"/>
                  <a:pt x="211" y="533"/>
                  <a:pt x="191" y="584"/>
                </a:cubicBezTo>
                <a:cubicBezTo>
                  <a:pt x="171" y="635"/>
                  <a:pt x="156" y="690"/>
                  <a:pt x="138" y="737"/>
                </a:cubicBezTo>
                <a:cubicBezTo>
                  <a:pt x="120" y="784"/>
                  <a:pt x="102" y="826"/>
                  <a:pt x="83" y="869"/>
                </a:cubicBezTo>
                <a:cubicBezTo>
                  <a:pt x="64" y="912"/>
                  <a:pt x="37" y="952"/>
                  <a:pt x="25" y="994"/>
                </a:cubicBezTo>
                <a:cubicBezTo>
                  <a:pt x="18" y="1028"/>
                  <a:pt x="0" y="1076"/>
                  <a:pt x="9" y="1122"/>
                </a:cubicBezTo>
                <a:cubicBezTo>
                  <a:pt x="18" y="1167"/>
                  <a:pt x="50" y="1227"/>
                  <a:pt x="79" y="1264"/>
                </a:cubicBezTo>
                <a:cubicBezTo>
                  <a:pt x="107" y="1301"/>
                  <a:pt x="147" y="1324"/>
                  <a:pt x="179" y="1344"/>
                </a:cubicBezTo>
                <a:cubicBezTo>
                  <a:pt x="191" y="1361"/>
                  <a:pt x="253" y="1382"/>
                  <a:pt x="272" y="1393"/>
                </a:cubicBezTo>
                <a:cubicBezTo>
                  <a:pt x="297" y="1410"/>
                  <a:pt x="356" y="1436"/>
                  <a:pt x="356" y="1436"/>
                </a:cubicBezTo>
                <a:cubicBezTo>
                  <a:pt x="390" y="1449"/>
                  <a:pt x="437" y="1470"/>
                  <a:pt x="477" y="1481"/>
                </a:cubicBezTo>
                <a:cubicBezTo>
                  <a:pt x="522" y="1494"/>
                  <a:pt x="582" y="1509"/>
                  <a:pt x="632" y="1514"/>
                </a:cubicBezTo>
                <a:cubicBezTo>
                  <a:pt x="688" y="1516"/>
                  <a:pt x="735" y="1513"/>
                  <a:pt x="781" y="1507"/>
                </a:cubicBezTo>
                <a:cubicBezTo>
                  <a:pt x="827" y="1503"/>
                  <a:pt x="865" y="1498"/>
                  <a:pt x="907" y="1487"/>
                </a:cubicBezTo>
                <a:cubicBezTo>
                  <a:pt x="931" y="1474"/>
                  <a:pt x="1008" y="1448"/>
                  <a:pt x="1036" y="1440"/>
                </a:cubicBezTo>
                <a:cubicBezTo>
                  <a:pt x="1074" y="1422"/>
                  <a:pt x="1091" y="1409"/>
                  <a:pt x="1115" y="1391"/>
                </a:cubicBezTo>
                <a:cubicBezTo>
                  <a:pt x="1139" y="1372"/>
                  <a:pt x="1159" y="1349"/>
                  <a:pt x="1181" y="1326"/>
                </a:cubicBezTo>
                <a:cubicBezTo>
                  <a:pt x="1187" y="1319"/>
                  <a:pt x="1244" y="1256"/>
                  <a:pt x="1249" y="1250"/>
                </a:cubicBezTo>
                <a:cubicBezTo>
                  <a:pt x="1275" y="1214"/>
                  <a:pt x="1315" y="1154"/>
                  <a:pt x="1338" y="1110"/>
                </a:cubicBezTo>
                <a:cubicBezTo>
                  <a:pt x="1361" y="1066"/>
                  <a:pt x="1378" y="1022"/>
                  <a:pt x="1391" y="983"/>
                </a:cubicBezTo>
                <a:cubicBezTo>
                  <a:pt x="1401" y="950"/>
                  <a:pt x="1411" y="915"/>
                  <a:pt x="1418" y="879"/>
                </a:cubicBezTo>
                <a:cubicBezTo>
                  <a:pt x="1422" y="818"/>
                  <a:pt x="1460" y="717"/>
                  <a:pt x="1443" y="615"/>
                </a:cubicBezTo>
                <a:cubicBezTo>
                  <a:pt x="1443" y="539"/>
                  <a:pt x="1440" y="479"/>
                  <a:pt x="1419" y="421"/>
                </a:cubicBezTo>
                <a:cubicBezTo>
                  <a:pt x="1398" y="362"/>
                  <a:pt x="1353" y="309"/>
                  <a:pt x="1314" y="262"/>
                </a:cubicBezTo>
                <a:cubicBezTo>
                  <a:pt x="1275" y="215"/>
                  <a:pt x="1228" y="172"/>
                  <a:pt x="1182" y="138"/>
                </a:cubicBezTo>
                <a:cubicBezTo>
                  <a:pt x="1136" y="104"/>
                  <a:pt x="1094" y="80"/>
                  <a:pt x="1039" y="57"/>
                </a:cubicBezTo>
                <a:cubicBezTo>
                  <a:pt x="984" y="34"/>
                  <a:pt x="910" y="5"/>
                  <a:pt x="850" y="0"/>
                </a:cubicBezTo>
                <a:cubicBezTo>
                  <a:pt x="794" y="7"/>
                  <a:pt x="728" y="9"/>
                  <a:pt x="676" y="33"/>
                </a:cubicBezTo>
                <a:cubicBezTo>
                  <a:pt x="625" y="47"/>
                  <a:pt x="574" y="60"/>
                  <a:pt x="545" y="85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93760" y="4513320"/>
            <a:ext cx="1152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t = t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43160" y="34099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52760" y="34084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5401800" y="2313720"/>
            <a:ext cx="1917000" cy="2559960"/>
            <a:chOff x="5401800" y="2313720"/>
            <a:chExt cx="1917000" cy="2559960"/>
          </a:xfrm>
        </p:grpSpPr>
        <p:sp>
          <p:nvSpPr>
            <p:cNvPr id="112" name=""/>
            <p:cNvSpPr/>
            <p:nvPr/>
          </p:nvSpPr>
          <p:spPr>
            <a:xfrm>
              <a:off x="6199200" y="339876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300000">
              <a:off x="5484600" y="2386080"/>
              <a:ext cx="1751040" cy="1982880"/>
            </a:xfrm>
            <a:custGeom>
              <a:avLst/>
              <a:gdLst/>
              <a:ahLst/>
              <a:rect l="l" t="t" r="r" b="b"/>
              <a:pathLst>
                <a:path w="2178" h="2459">
                  <a:moveTo>
                    <a:pt x="426" y="232"/>
                  </a:moveTo>
                  <a:cubicBezTo>
                    <a:pt x="395" y="259"/>
                    <a:pt x="352" y="311"/>
                    <a:pt x="321" y="352"/>
                  </a:cubicBezTo>
                  <a:cubicBezTo>
                    <a:pt x="295" y="393"/>
                    <a:pt x="254" y="436"/>
                    <a:pt x="239" y="485"/>
                  </a:cubicBezTo>
                  <a:cubicBezTo>
                    <a:pt x="225" y="534"/>
                    <a:pt x="230" y="592"/>
                    <a:pt x="232" y="646"/>
                  </a:cubicBezTo>
                  <a:cubicBezTo>
                    <a:pt x="234" y="700"/>
                    <a:pt x="246" y="740"/>
                    <a:pt x="253" y="808"/>
                  </a:cubicBezTo>
                  <a:cubicBezTo>
                    <a:pt x="260" y="876"/>
                    <a:pt x="274" y="977"/>
                    <a:pt x="274" y="1053"/>
                  </a:cubicBezTo>
                  <a:cubicBezTo>
                    <a:pt x="274" y="1129"/>
                    <a:pt x="268" y="1198"/>
                    <a:pt x="252" y="1263"/>
                  </a:cubicBezTo>
                  <a:cubicBezTo>
                    <a:pt x="236" y="1328"/>
                    <a:pt x="207" y="1389"/>
                    <a:pt x="178" y="1444"/>
                  </a:cubicBezTo>
                  <a:cubicBezTo>
                    <a:pt x="148" y="1498"/>
                    <a:pt x="101" y="1532"/>
                    <a:pt x="73" y="1591"/>
                  </a:cubicBezTo>
                  <a:cubicBezTo>
                    <a:pt x="46" y="1651"/>
                    <a:pt x="24" y="1735"/>
                    <a:pt x="17" y="1805"/>
                  </a:cubicBezTo>
                  <a:cubicBezTo>
                    <a:pt x="14" y="1859"/>
                    <a:pt x="0" y="1941"/>
                    <a:pt x="27" y="2010"/>
                  </a:cubicBezTo>
                  <a:cubicBezTo>
                    <a:pt x="54" y="2078"/>
                    <a:pt x="122" y="2164"/>
                    <a:pt x="178" y="2214"/>
                  </a:cubicBezTo>
                  <a:cubicBezTo>
                    <a:pt x="232" y="2265"/>
                    <a:pt x="300" y="2288"/>
                    <a:pt x="356" y="2312"/>
                  </a:cubicBezTo>
                  <a:cubicBezTo>
                    <a:pt x="381" y="2334"/>
                    <a:pt x="483" y="2351"/>
                    <a:pt x="516" y="2363"/>
                  </a:cubicBezTo>
                  <a:cubicBezTo>
                    <a:pt x="562" y="2382"/>
                    <a:pt x="660" y="2407"/>
                    <a:pt x="660" y="2407"/>
                  </a:cubicBezTo>
                  <a:cubicBezTo>
                    <a:pt x="718" y="2417"/>
                    <a:pt x="798" y="2438"/>
                    <a:pt x="863" y="2444"/>
                  </a:cubicBezTo>
                  <a:cubicBezTo>
                    <a:pt x="939" y="2452"/>
                    <a:pt x="1036" y="2459"/>
                    <a:pt x="1117" y="2452"/>
                  </a:cubicBezTo>
                  <a:cubicBezTo>
                    <a:pt x="1206" y="2441"/>
                    <a:pt x="1279" y="2422"/>
                    <a:pt x="1350" y="2402"/>
                  </a:cubicBezTo>
                  <a:cubicBezTo>
                    <a:pt x="1421" y="2382"/>
                    <a:pt x="1479" y="2363"/>
                    <a:pt x="1543" y="2334"/>
                  </a:cubicBezTo>
                  <a:cubicBezTo>
                    <a:pt x="1576" y="2308"/>
                    <a:pt x="1690" y="2245"/>
                    <a:pt x="1734" y="2225"/>
                  </a:cubicBezTo>
                  <a:cubicBezTo>
                    <a:pt x="1788" y="2186"/>
                    <a:pt x="1810" y="2161"/>
                    <a:pt x="1843" y="2125"/>
                  </a:cubicBezTo>
                  <a:cubicBezTo>
                    <a:pt x="1876" y="2089"/>
                    <a:pt x="1902" y="2048"/>
                    <a:pt x="1930" y="2006"/>
                  </a:cubicBezTo>
                  <a:cubicBezTo>
                    <a:pt x="1936" y="1994"/>
                    <a:pt x="2008" y="1879"/>
                    <a:pt x="2015" y="1868"/>
                  </a:cubicBezTo>
                  <a:cubicBezTo>
                    <a:pt x="2047" y="1804"/>
                    <a:pt x="2093" y="1699"/>
                    <a:pt x="2117" y="1623"/>
                  </a:cubicBezTo>
                  <a:cubicBezTo>
                    <a:pt x="2142" y="1547"/>
                    <a:pt x="2155" y="1474"/>
                    <a:pt x="2165" y="1410"/>
                  </a:cubicBezTo>
                  <a:cubicBezTo>
                    <a:pt x="2171" y="1354"/>
                    <a:pt x="2178" y="1297"/>
                    <a:pt x="2178" y="1239"/>
                  </a:cubicBezTo>
                  <a:cubicBezTo>
                    <a:pt x="2169" y="1142"/>
                    <a:pt x="2156" y="926"/>
                    <a:pt x="2144" y="817"/>
                  </a:cubicBezTo>
                  <a:cubicBezTo>
                    <a:pt x="2132" y="708"/>
                    <a:pt x="2125" y="656"/>
                    <a:pt x="2106" y="584"/>
                  </a:cubicBezTo>
                  <a:cubicBezTo>
                    <a:pt x="2088" y="512"/>
                    <a:pt x="2060" y="444"/>
                    <a:pt x="2034" y="385"/>
                  </a:cubicBezTo>
                  <a:cubicBezTo>
                    <a:pt x="2008" y="326"/>
                    <a:pt x="1990" y="281"/>
                    <a:pt x="1951" y="232"/>
                  </a:cubicBezTo>
                  <a:cubicBezTo>
                    <a:pt x="1912" y="183"/>
                    <a:pt x="1856" y="124"/>
                    <a:pt x="1797" y="93"/>
                  </a:cubicBezTo>
                  <a:cubicBezTo>
                    <a:pt x="1739" y="62"/>
                    <a:pt x="1677" y="56"/>
                    <a:pt x="1597" y="44"/>
                  </a:cubicBezTo>
                  <a:cubicBezTo>
                    <a:pt x="1517" y="32"/>
                    <a:pt x="1411" y="26"/>
                    <a:pt x="1319" y="21"/>
                  </a:cubicBezTo>
                  <a:cubicBezTo>
                    <a:pt x="1187" y="0"/>
                    <a:pt x="1129" y="20"/>
                    <a:pt x="1040" y="16"/>
                  </a:cubicBezTo>
                  <a:cubicBezTo>
                    <a:pt x="920" y="24"/>
                    <a:pt x="862" y="34"/>
                    <a:pt x="753" y="50"/>
                  </a:cubicBezTo>
                  <a:cubicBezTo>
                    <a:pt x="678" y="70"/>
                    <a:pt x="641" y="83"/>
                    <a:pt x="586" y="113"/>
                  </a:cubicBezTo>
                  <a:cubicBezTo>
                    <a:pt x="532" y="143"/>
                    <a:pt x="459" y="208"/>
                    <a:pt x="426" y="232"/>
                  </a:cubicBez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692680" y="450540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ime 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132600" y="3382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굴림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236280" y="3062880"/>
            <a:ext cx="743760" cy="350280"/>
            <a:chOff x="6236280" y="3062880"/>
            <a:chExt cx="743760" cy="350280"/>
          </a:xfrm>
        </p:grpSpPr>
        <p:sp>
          <p:nvSpPr>
            <p:cNvPr id="117" name=""/>
            <p:cNvSpPr/>
            <p:nvPr/>
          </p:nvSpPr>
          <p:spPr>
            <a:xfrm flipV="1">
              <a:off x="6236280" y="3062880"/>
              <a:ext cx="500040" cy="35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692760" y="3200400"/>
              <a:ext cx="287280" cy="153720"/>
              <a:chOff x="6692760" y="3200400"/>
              <a:chExt cx="287280" cy="153720"/>
            </a:xfrm>
          </p:grpSpPr>
          <p:sp>
            <p:nvSpPr>
              <p:cNvPr id="119" name=""/>
              <p:cNvSpPr/>
              <p:nvPr/>
            </p:nvSpPr>
            <p:spPr>
              <a:xfrm>
                <a:off x="6692760" y="3200400"/>
                <a:ext cx="287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5228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700" spc="-1" strike="noStrike">
                    <a:solidFill>
                      <a:srgbClr val="000000"/>
                    </a:solidFill>
                    <a:latin typeface="cmbx10"/>
                  </a:rPr>
                  <a:t>w</a:t>
                </a:r>
                <a:endParaRPr b="0" lang="en-US" sz="2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692760" y="3200400"/>
                <a:ext cx="287280" cy="15372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" name=""/>
          <p:cNvGrpSpPr/>
          <p:nvPr/>
        </p:nvGrpSpPr>
        <p:grpSpPr>
          <a:xfrm>
            <a:off x="2587680" y="2778120"/>
            <a:ext cx="503280" cy="653760"/>
            <a:chOff x="2587680" y="2778120"/>
            <a:chExt cx="503280" cy="653760"/>
          </a:xfrm>
        </p:grpSpPr>
        <p:sp>
          <p:nvSpPr>
            <p:cNvPr id="122" name=""/>
            <p:cNvSpPr/>
            <p:nvPr/>
          </p:nvSpPr>
          <p:spPr>
            <a:xfrm flipV="1">
              <a:off x="2587680" y="2928600"/>
              <a:ext cx="50328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2587680" y="2778120"/>
              <a:ext cx="358560" cy="206280"/>
              <a:chOff x="2587680" y="2778120"/>
              <a:chExt cx="358560" cy="206280"/>
            </a:xfrm>
          </p:grpSpPr>
          <p:sp>
            <p:nvSpPr>
              <p:cNvPr id="124" name=""/>
              <p:cNvSpPr/>
              <p:nvPr/>
            </p:nvSpPr>
            <p:spPr>
              <a:xfrm>
                <a:off x="2587680" y="2778120"/>
                <a:ext cx="35856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628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bx10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587680" y="2778120"/>
                <a:ext cx="358560" cy="20628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" name=""/>
          <p:cNvGrpSpPr/>
          <p:nvPr/>
        </p:nvGrpSpPr>
        <p:grpSpPr>
          <a:xfrm>
            <a:off x="2629080" y="3441600"/>
            <a:ext cx="3600360" cy="334800"/>
            <a:chOff x="2629080" y="3441600"/>
            <a:chExt cx="3600360" cy="334800"/>
          </a:xfrm>
        </p:grpSpPr>
        <p:sp>
          <p:nvSpPr>
            <p:cNvPr id="127" name=""/>
            <p:cNvSpPr/>
            <p:nvPr/>
          </p:nvSpPr>
          <p:spPr>
            <a:xfrm>
              <a:off x="2629080" y="3441600"/>
              <a:ext cx="36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4388040" y="3570120"/>
              <a:ext cx="219240" cy="206280"/>
              <a:chOff x="4388040" y="3570120"/>
              <a:chExt cx="219240" cy="206280"/>
            </a:xfrm>
          </p:grpSpPr>
          <p:sp>
            <p:nvSpPr>
              <p:cNvPr id="129" name=""/>
              <p:cNvSpPr/>
              <p:nvPr/>
            </p:nvSpPr>
            <p:spPr>
              <a:xfrm>
                <a:off x="4388040" y="3570120"/>
                <a:ext cx="21924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0628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mbx10"/>
                  </a:rPr>
                  <a:t>F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388040" y="3570120"/>
                <a:ext cx="219240" cy="20628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4100400" y="5730840"/>
            <a:ext cx="1236600" cy="290520"/>
            <a:chOff x="4100400" y="5730840"/>
            <a:chExt cx="1236600" cy="290520"/>
          </a:xfrm>
        </p:grpSpPr>
        <p:sp>
          <p:nvSpPr>
            <p:cNvPr id="132" name=""/>
            <p:cNvSpPr/>
            <p:nvPr/>
          </p:nvSpPr>
          <p:spPr>
            <a:xfrm>
              <a:off x="4100400" y="5802120"/>
              <a:ext cx="2034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92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bx10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92720" y="5905440"/>
              <a:ext cx="2476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4520" bIns="-828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27520" y="5803920"/>
              <a:ext cx="2304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56120" y="5803920"/>
              <a:ext cx="2304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74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86520" y="5732280"/>
              <a:ext cx="14904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0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00400" y="5730840"/>
              <a:ext cx="1236600" cy="2905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900600" y="1989000"/>
            <a:ext cx="1512720" cy="650880"/>
            <a:chOff x="3900600" y="1989000"/>
            <a:chExt cx="1512720" cy="650880"/>
          </a:xfrm>
        </p:grpSpPr>
        <p:sp>
          <p:nvSpPr>
            <p:cNvPr id="139" name=""/>
            <p:cNvSpPr/>
            <p:nvPr/>
          </p:nvSpPr>
          <p:spPr>
            <a:xfrm>
              <a:off x="3900600" y="2424240"/>
              <a:ext cx="1512720" cy="215640"/>
            </a:xfrm>
            <a:custGeom>
              <a:avLst/>
              <a:gdLst/>
              <a:ahLst/>
              <a:rect l="l" t="t" r="r" b="b"/>
              <a:pathLst>
                <a:path w="953" h="136">
                  <a:moveTo>
                    <a:pt x="0" y="136"/>
                  </a:moveTo>
                  <a:cubicBezTo>
                    <a:pt x="170" y="68"/>
                    <a:pt x="340" y="0"/>
                    <a:pt x="499" y="0"/>
                  </a:cubicBezTo>
                  <a:cubicBezTo>
                    <a:pt x="658" y="0"/>
                    <a:pt x="805" y="68"/>
                    <a:pt x="953" y="1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72040" y="1989000"/>
              <a:ext cx="1047600" cy="327240"/>
              <a:chOff x="4172040" y="1989000"/>
              <a:chExt cx="1047600" cy="3272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72040" y="2089080"/>
                <a:ext cx="244440" cy="2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4360" bIns="633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mib10"/>
                  </a:rPr>
                  <a:t>'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416480" y="1989000"/>
                <a:ext cx="12708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44440" bIns="8100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</a:rPr>
                  <a:t>(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45000" y="2009880"/>
                <a:ext cx="28404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23560" bIns="-3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bx10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829040" y="2200320"/>
                <a:ext cx="90720" cy="9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3480" bIns="633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mi10"/>
                  </a:rPr>
                  <a:t>;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975200" y="2033640"/>
                <a:ext cx="117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99800" bIns="-3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mi10"/>
                  </a:rPr>
                  <a:t>t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092920" y="1989000"/>
                <a:ext cx="1267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44440" bIns="8100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</a:rPr>
                  <a:t>)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172040" y="1989000"/>
                <a:ext cx="1047600" cy="32724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"/>
          <p:cNvGrpSpPr/>
          <p:nvPr/>
        </p:nvGrpSpPr>
        <p:grpSpPr>
          <a:xfrm>
            <a:off x="4100400" y="4865760"/>
            <a:ext cx="1096920" cy="620640"/>
            <a:chOff x="4100400" y="4865760"/>
            <a:chExt cx="1096920" cy="620640"/>
          </a:xfrm>
        </p:grpSpPr>
        <p:sp>
          <p:nvSpPr>
            <p:cNvPr id="149" name=""/>
            <p:cNvSpPr/>
            <p:nvPr/>
          </p:nvSpPr>
          <p:spPr>
            <a:xfrm>
              <a:off x="4100400" y="5073840"/>
              <a:ext cx="21924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02080" y="5170680"/>
              <a:ext cx="23508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69840" bIns="-79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775040" y="4865760"/>
              <a:ext cx="16056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9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@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52880" y="4942080"/>
              <a:ext cx="225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57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b10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57760" y="5203800"/>
              <a:ext cx="438120" cy="0"/>
            </a:xfrm>
            <a:prstGeom prst="line">
              <a:avLst/>
            </a:prstGeom>
            <a:ln w="12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57760" y="5276880"/>
              <a:ext cx="1602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9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mi10"/>
                </a:rPr>
                <a:t>@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33800" y="5280120"/>
              <a:ext cx="26208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6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bx10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00400" y="4865760"/>
              <a:ext cx="1096920" cy="6206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9900"/>
                </a:solidFill>
                <a:latin typeface="Garamond"/>
              </a:rPr>
              <a:t>Updated Lagrangian Setting</a:t>
            </a:r>
            <a:endParaRPr b="1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"/>
          <p:cNvSpPr/>
          <p:nvPr/>
        </p:nvSpPr>
        <p:spPr>
          <a:xfrm rot="21000000">
            <a:off x="1878120" y="2304720"/>
            <a:ext cx="1593720" cy="1654200"/>
          </a:xfrm>
          <a:custGeom>
            <a:avLst/>
            <a:gdLst/>
            <a:ahLst/>
            <a:rect l="l" t="t" r="r" b="b"/>
            <a:pathLst>
              <a:path w="1460" h="1516">
                <a:moveTo>
                  <a:pt x="545" y="85"/>
                </a:moveTo>
                <a:cubicBezTo>
                  <a:pt x="476" y="155"/>
                  <a:pt x="446" y="181"/>
                  <a:pt x="399" y="238"/>
                </a:cubicBezTo>
                <a:cubicBezTo>
                  <a:pt x="352" y="295"/>
                  <a:pt x="296" y="372"/>
                  <a:pt x="261" y="430"/>
                </a:cubicBezTo>
                <a:cubicBezTo>
                  <a:pt x="226" y="488"/>
                  <a:pt x="211" y="533"/>
                  <a:pt x="191" y="584"/>
                </a:cubicBezTo>
                <a:cubicBezTo>
                  <a:pt x="171" y="635"/>
                  <a:pt x="156" y="690"/>
                  <a:pt x="138" y="737"/>
                </a:cubicBezTo>
                <a:cubicBezTo>
                  <a:pt x="120" y="784"/>
                  <a:pt x="102" y="826"/>
                  <a:pt x="83" y="869"/>
                </a:cubicBezTo>
                <a:cubicBezTo>
                  <a:pt x="64" y="912"/>
                  <a:pt x="37" y="952"/>
                  <a:pt x="25" y="994"/>
                </a:cubicBezTo>
                <a:cubicBezTo>
                  <a:pt x="18" y="1028"/>
                  <a:pt x="0" y="1076"/>
                  <a:pt x="9" y="1122"/>
                </a:cubicBezTo>
                <a:cubicBezTo>
                  <a:pt x="18" y="1167"/>
                  <a:pt x="50" y="1227"/>
                  <a:pt x="79" y="1264"/>
                </a:cubicBezTo>
                <a:cubicBezTo>
                  <a:pt x="107" y="1301"/>
                  <a:pt x="147" y="1324"/>
                  <a:pt x="179" y="1344"/>
                </a:cubicBezTo>
                <a:cubicBezTo>
                  <a:pt x="191" y="1361"/>
                  <a:pt x="253" y="1382"/>
                  <a:pt x="272" y="1393"/>
                </a:cubicBezTo>
                <a:cubicBezTo>
                  <a:pt x="297" y="1410"/>
                  <a:pt x="356" y="1436"/>
                  <a:pt x="356" y="1436"/>
                </a:cubicBezTo>
                <a:cubicBezTo>
                  <a:pt x="390" y="1449"/>
                  <a:pt x="437" y="1470"/>
                  <a:pt x="477" y="1481"/>
                </a:cubicBezTo>
                <a:cubicBezTo>
                  <a:pt x="522" y="1494"/>
                  <a:pt x="582" y="1509"/>
                  <a:pt x="632" y="1514"/>
                </a:cubicBezTo>
                <a:cubicBezTo>
                  <a:pt x="688" y="1516"/>
                  <a:pt x="735" y="1513"/>
                  <a:pt x="781" y="1507"/>
                </a:cubicBezTo>
                <a:cubicBezTo>
                  <a:pt x="827" y="1503"/>
                  <a:pt x="865" y="1498"/>
                  <a:pt x="907" y="1487"/>
                </a:cubicBezTo>
                <a:cubicBezTo>
                  <a:pt x="931" y="1474"/>
                  <a:pt x="1008" y="1448"/>
                  <a:pt x="1036" y="1440"/>
                </a:cubicBezTo>
                <a:cubicBezTo>
                  <a:pt x="1074" y="1422"/>
                  <a:pt x="1091" y="1409"/>
                  <a:pt x="1115" y="1391"/>
                </a:cubicBezTo>
                <a:cubicBezTo>
                  <a:pt x="1139" y="1372"/>
                  <a:pt x="1159" y="1349"/>
                  <a:pt x="1181" y="1326"/>
                </a:cubicBezTo>
                <a:cubicBezTo>
                  <a:pt x="1187" y="1319"/>
                  <a:pt x="1244" y="1256"/>
                  <a:pt x="1249" y="1250"/>
                </a:cubicBezTo>
                <a:cubicBezTo>
                  <a:pt x="1275" y="1214"/>
                  <a:pt x="1315" y="1154"/>
                  <a:pt x="1338" y="1110"/>
                </a:cubicBezTo>
                <a:cubicBezTo>
                  <a:pt x="1361" y="1066"/>
                  <a:pt x="1378" y="1022"/>
                  <a:pt x="1391" y="983"/>
                </a:cubicBezTo>
                <a:cubicBezTo>
                  <a:pt x="1401" y="950"/>
                  <a:pt x="1411" y="915"/>
                  <a:pt x="1418" y="879"/>
                </a:cubicBezTo>
                <a:cubicBezTo>
                  <a:pt x="1422" y="818"/>
                  <a:pt x="1460" y="717"/>
                  <a:pt x="1443" y="615"/>
                </a:cubicBezTo>
                <a:cubicBezTo>
                  <a:pt x="1443" y="539"/>
                  <a:pt x="1440" y="479"/>
                  <a:pt x="1419" y="421"/>
                </a:cubicBezTo>
                <a:cubicBezTo>
                  <a:pt x="1398" y="362"/>
                  <a:pt x="1353" y="309"/>
                  <a:pt x="1314" y="262"/>
                </a:cubicBezTo>
                <a:cubicBezTo>
                  <a:pt x="1275" y="215"/>
                  <a:pt x="1228" y="172"/>
                  <a:pt x="1182" y="138"/>
                </a:cubicBezTo>
                <a:cubicBezTo>
                  <a:pt x="1136" y="104"/>
                  <a:pt x="1094" y="80"/>
                  <a:pt x="1039" y="57"/>
                </a:cubicBezTo>
                <a:cubicBezTo>
                  <a:pt x="984" y="34"/>
                  <a:pt x="910" y="5"/>
                  <a:pt x="850" y="0"/>
                </a:cubicBezTo>
                <a:cubicBezTo>
                  <a:pt x="794" y="7"/>
                  <a:pt x="728" y="9"/>
                  <a:pt x="676" y="33"/>
                </a:cubicBezTo>
                <a:cubicBezTo>
                  <a:pt x="625" y="47"/>
                  <a:pt x="574" y="60"/>
                  <a:pt x="545" y="85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300000">
            <a:off x="5665320" y="2316240"/>
            <a:ext cx="1427400" cy="1616040"/>
          </a:xfrm>
          <a:custGeom>
            <a:avLst/>
            <a:gdLst/>
            <a:ahLst/>
            <a:rect l="l" t="t" r="r" b="b"/>
            <a:pathLst>
              <a:path w="2178" h="2459">
                <a:moveTo>
                  <a:pt x="426" y="232"/>
                </a:moveTo>
                <a:cubicBezTo>
                  <a:pt x="395" y="259"/>
                  <a:pt x="352" y="311"/>
                  <a:pt x="321" y="352"/>
                </a:cubicBezTo>
                <a:cubicBezTo>
                  <a:pt x="295" y="393"/>
                  <a:pt x="254" y="436"/>
                  <a:pt x="239" y="485"/>
                </a:cubicBezTo>
                <a:cubicBezTo>
                  <a:pt x="225" y="534"/>
                  <a:pt x="230" y="592"/>
                  <a:pt x="232" y="646"/>
                </a:cubicBezTo>
                <a:cubicBezTo>
                  <a:pt x="234" y="700"/>
                  <a:pt x="246" y="740"/>
                  <a:pt x="253" y="808"/>
                </a:cubicBezTo>
                <a:cubicBezTo>
                  <a:pt x="260" y="876"/>
                  <a:pt x="274" y="977"/>
                  <a:pt x="274" y="1053"/>
                </a:cubicBezTo>
                <a:cubicBezTo>
                  <a:pt x="274" y="1129"/>
                  <a:pt x="268" y="1198"/>
                  <a:pt x="252" y="1263"/>
                </a:cubicBezTo>
                <a:cubicBezTo>
                  <a:pt x="236" y="1328"/>
                  <a:pt x="207" y="1389"/>
                  <a:pt x="178" y="1444"/>
                </a:cubicBezTo>
                <a:cubicBezTo>
                  <a:pt x="148" y="1498"/>
                  <a:pt x="101" y="1532"/>
                  <a:pt x="73" y="1591"/>
                </a:cubicBezTo>
                <a:cubicBezTo>
                  <a:pt x="46" y="1651"/>
                  <a:pt x="24" y="1735"/>
                  <a:pt x="17" y="1805"/>
                </a:cubicBezTo>
                <a:cubicBezTo>
                  <a:pt x="14" y="1859"/>
                  <a:pt x="0" y="1941"/>
                  <a:pt x="27" y="2010"/>
                </a:cubicBezTo>
                <a:cubicBezTo>
                  <a:pt x="54" y="2078"/>
                  <a:pt x="122" y="2164"/>
                  <a:pt x="178" y="2214"/>
                </a:cubicBezTo>
                <a:cubicBezTo>
                  <a:pt x="232" y="2265"/>
                  <a:pt x="300" y="2288"/>
                  <a:pt x="356" y="2312"/>
                </a:cubicBezTo>
                <a:cubicBezTo>
                  <a:pt x="381" y="2334"/>
                  <a:pt x="483" y="2351"/>
                  <a:pt x="516" y="2363"/>
                </a:cubicBezTo>
                <a:cubicBezTo>
                  <a:pt x="562" y="2382"/>
                  <a:pt x="660" y="2407"/>
                  <a:pt x="660" y="2407"/>
                </a:cubicBezTo>
                <a:cubicBezTo>
                  <a:pt x="718" y="2417"/>
                  <a:pt x="798" y="2438"/>
                  <a:pt x="863" y="2444"/>
                </a:cubicBezTo>
                <a:cubicBezTo>
                  <a:pt x="939" y="2452"/>
                  <a:pt x="1036" y="2459"/>
                  <a:pt x="1117" y="2452"/>
                </a:cubicBezTo>
                <a:cubicBezTo>
                  <a:pt x="1206" y="2441"/>
                  <a:pt x="1279" y="2422"/>
                  <a:pt x="1350" y="2402"/>
                </a:cubicBezTo>
                <a:cubicBezTo>
                  <a:pt x="1421" y="2382"/>
                  <a:pt x="1479" y="2363"/>
                  <a:pt x="1543" y="2334"/>
                </a:cubicBezTo>
                <a:cubicBezTo>
                  <a:pt x="1576" y="2308"/>
                  <a:pt x="1690" y="2245"/>
                  <a:pt x="1734" y="2225"/>
                </a:cubicBezTo>
                <a:cubicBezTo>
                  <a:pt x="1788" y="2186"/>
                  <a:pt x="1810" y="2161"/>
                  <a:pt x="1843" y="2125"/>
                </a:cubicBezTo>
                <a:cubicBezTo>
                  <a:pt x="1876" y="2089"/>
                  <a:pt x="1902" y="2048"/>
                  <a:pt x="1930" y="2006"/>
                </a:cubicBezTo>
                <a:cubicBezTo>
                  <a:pt x="1936" y="1994"/>
                  <a:pt x="2008" y="1879"/>
                  <a:pt x="2015" y="1868"/>
                </a:cubicBezTo>
                <a:cubicBezTo>
                  <a:pt x="2047" y="1804"/>
                  <a:pt x="2093" y="1699"/>
                  <a:pt x="2117" y="1623"/>
                </a:cubicBezTo>
                <a:cubicBezTo>
                  <a:pt x="2142" y="1547"/>
                  <a:pt x="2155" y="1474"/>
                  <a:pt x="2165" y="1410"/>
                </a:cubicBezTo>
                <a:cubicBezTo>
                  <a:pt x="2171" y="1354"/>
                  <a:pt x="2178" y="1297"/>
                  <a:pt x="2178" y="1239"/>
                </a:cubicBezTo>
                <a:cubicBezTo>
                  <a:pt x="2169" y="1142"/>
                  <a:pt x="2156" y="926"/>
                  <a:pt x="2144" y="817"/>
                </a:cubicBezTo>
                <a:cubicBezTo>
                  <a:pt x="2132" y="708"/>
                  <a:pt x="2125" y="656"/>
                  <a:pt x="2106" y="584"/>
                </a:cubicBezTo>
                <a:cubicBezTo>
                  <a:pt x="2088" y="512"/>
                  <a:pt x="2060" y="444"/>
                  <a:pt x="2034" y="385"/>
                </a:cubicBezTo>
                <a:cubicBezTo>
                  <a:pt x="2008" y="326"/>
                  <a:pt x="1990" y="281"/>
                  <a:pt x="1951" y="232"/>
                </a:cubicBezTo>
                <a:cubicBezTo>
                  <a:pt x="1912" y="183"/>
                  <a:pt x="1856" y="124"/>
                  <a:pt x="1797" y="93"/>
                </a:cubicBezTo>
                <a:cubicBezTo>
                  <a:pt x="1739" y="62"/>
                  <a:pt x="1677" y="56"/>
                  <a:pt x="1597" y="44"/>
                </a:cubicBezTo>
                <a:cubicBezTo>
                  <a:pt x="1517" y="32"/>
                  <a:pt x="1411" y="26"/>
                  <a:pt x="1319" y="21"/>
                </a:cubicBezTo>
                <a:cubicBezTo>
                  <a:pt x="1187" y="0"/>
                  <a:pt x="1129" y="20"/>
                  <a:pt x="1040" y="16"/>
                </a:cubicBezTo>
                <a:cubicBezTo>
                  <a:pt x="920" y="24"/>
                  <a:pt x="862" y="34"/>
                  <a:pt x="753" y="50"/>
                </a:cubicBezTo>
                <a:cubicBezTo>
                  <a:pt x="678" y="70"/>
                  <a:pt x="641" y="83"/>
                  <a:pt x="586" y="113"/>
                </a:cubicBezTo>
                <a:cubicBezTo>
                  <a:pt x="532" y="143"/>
                  <a:pt x="459" y="208"/>
                  <a:pt x="426" y="232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00600" y="2424240"/>
            <a:ext cx="1512720" cy="215640"/>
          </a:xfrm>
          <a:custGeom>
            <a:avLst/>
            <a:gdLst/>
            <a:ahLst/>
            <a:rect l="l" t="t" r="r" b="b"/>
            <a:pathLst>
              <a:path w="953" h="136">
                <a:moveTo>
                  <a:pt x="0" y="136"/>
                </a:moveTo>
                <a:cubicBezTo>
                  <a:pt x="170" y="68"/>
                  <a:pt x="340" y="0"/>
                  <a:pt x="499" y="0"/>
                </a:cubicBezTo>
                <a:cubicBezTo>
                  <a:pt x="658" y="0"/>
                  <a:pt x="805" y="68"/>
                  <a:pt x="953" y="1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924360" y="1989000"/>
            <a:ext cx="1404720" cy="327240"/>
            <a:chOff x="3924360" y="1989000"/>
            <a:chExt cx="1404720" cy="327240"/>
          </a:xfrm>
        </p:grpSpPr>
        <p:sp>
          <p:nvSpPr>
            <p:cNvPr id="162" name=""/>
            <p:cNvSpPr/>
            <p:nvPr/>
          </p:nvSpPr>
          <p:spPr>
            <a:xfrm>
              <a:off x="3924360" y="2089080"/>
              <a:ext cx="24444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4436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b10"/>
                </a:rPr>
                <a:t>'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68800" y="2184480"/>
              <a:ext cx="1620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8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48080" y="1989000"/>
              <a:ext cx="127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75160" y="2009880"/>
              <a:ext cx="28404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356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bx10"/>
                </a:rPr>
                <a:t>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59200" y="2200320"/>
              <a:ext cx="9072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3480" bIns="63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05360" y="2033640"/>
              <a:ext cx="11736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9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mi10"/>
                </a:rPr>
                <a:t>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22720" y="2184480"/>
              <a:ext cx="162000" cy="9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8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02360" y="1989000"/>
              <a:ext cx="126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444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24360" y="1989000"/>
              <a:ext cx="1404720" cy="32724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484360" y="2995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372360" y="316404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372360" y="2924280"/>
            <a:ext cx="504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-1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57800" y="2779560"/>
            <a:ext cx="5745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 baseline="-1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90800" y="315288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87640" y="3192480"/>
            <a:ext cx="3384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80000" y="4363920"/>
            <a:ext cx="1555560" cy="1586160"/>
          </a:xfrm>
          <a:custGeom>
            <a:avLst/>
            <a:gdLst/>
            <a:ahLst/>
            <a:rect l="l" t="t" r="r" b="b"/>
            <a:pathLst>
              <a:path w="1870" h="1905">
                <a:moveTo>
                  <a:pt x="773" y="52"/>
                </a:moveTo>
                <a:cubicBezTo>
                  <a:pt x="743" y="64"/>
                  <a:pt x="698" y="90"/>
                  <a:pt x="664" y="113"/>
                </a:cubicBezTo>
                <a:cubicBezTo>
                  <a:pt x="633" y="136"/>
                  <a:pt x="591" y="157"/>
                  <a:pt x="568" y="189"/>
                </a:cubicBezTo>
                <a:cubicBezTo>
                  <a:pt x="544" y="222"/>
                  <a:pt x="532" y="265"/>
                  <a:pt x="519" y="306"/>
                </a:cubicBezTo>
                <a:cubicBezTo>
                  <a:pt x="507" y="346"/>
                  <a:pt x="504" y="379"/>
                  <a:pt x="492" y="431"/>
                </a:cubicBezTo>
                <a:cubicBezTo>
                  <a:pt x="478" y="484"/>
                  <a:pt x="461" y="562"/>
                  <a:pt x="441" y="618"/>
                </a:cubicBezTo>
                <a:cubicBezTo>
                  <a:pt x="420" y="673"/>
                  <a:pt x="397" y="723"/>
                  <a:pt x="368" y="767"/>
                </a:cubicBezTo>
                <a:cubicBezTo>
                  <a:pt x="339" y="811"/>
                  <a:pt x="301" y="848"/>
                  <a:pt x="265" y="881"/>
                </a:cubicBezTo>
                <a:cubicBezTo>
                  <a:pt x="228" y="913"/>
                  <a:pt x="184" y="925"/>
                  <a:pt x="147" y="961"/>
                </a:cubicBezTo>
                <a:cubicBezTo>
                  <a:pt x="112" y="998"/>
                  <a:pt x="73" y="1055"/>
                  <a:pt x="49" y="1104"/>
                </a:cubicBezTo>
                <a:cubicBezTo>
                  <a:pt x="32" y="1143"/>
                  <a:pt x="0" y="1200"/>
                  <a:pt x="1" y="1258"/>
                </a:cubicBezTo>
                <a:cubicBezTo>
                  <a:pt x="3" y="1315"/>
                  <a:pt x="30" y="1398"/>
                  <a:pt x="58" y="1449"/>
                </a:cubicBezTo>
                <a:cubicBezTo>
                  <a:pt x="84" y="1501"/>
                  <a:pt x="127" y="1537"/>
                  <a:pt x="163" y="1569"/>
                </a:cubicBezTo>
                <a:cubicBezTo>
                  <a:pt x="175" y="1593"/>
                  <a:pt x="246" y="1633"/>
                  <a:pt x="267" y="1651"/>
                </a:cubicBezTo>
                <a:cubicBezTo>
                  <a:pt x="296" y="1676"/>
                  <a:pt x="361" y="1721"/>
                  <a:pt x="361" y="1721"/>
                </a:cubicBezTo>
                <a:cubicBezTo>
                  <a:pt x="401" y="1744"/>
                  <a:pt x="455" y="1781"/>
                  <a:pt x="501" y="1803"/>
                </a:cubicBezTo>
                <a:cubicBezTo>
                  <a:pt x="555" y="1829"/>
                  <a:pt x="625" y="1861"/>
                  <a:pt x="686" y="1877"/>
                </a:cubicBezTo>
                <a:cubicBezTo>
                  <a:pt x="754" y="1893"/>
                  <a:pt x="803" y="1901"/>
                  <a:pt x="871" y="1903"/>
                </a:cubicBezTo>
                <a:cubicBezTo>
                  <a:pt x="930" y="1905"/>
                  <a:pt x="986" y="1897"/>
                  <a:pt x="1041" y="1892"/>
                </a:cubicBezTo>
                <a:cubicBezTo>
                  <a:pt x="1096" y="1887"/>
                  <a:pt x="1153" y="1884"/>
                  <a:pt x="1203" y="1875"/>
                </a:cubicBezTo>
                <a:cubicBezTo>
                  <a:pt x="1249" y="1863"/>
                  <a:pt x="1307" y="1856"/>
                  <a:pt x="1341" y="1838"/>
                </a:cubicBezTo>
                <a:cubicBezTo>
                  <a:pt x="1382" y="1820"/>
                  <a:pt x="1416" y="1801"/>
                  <a:pt x="1448" y="1769"/>
                </a:cubicBezTo>
                <a:cubicBezTo>
                  <a:pt x="1485" y="1738"/>
                  <a:pt x="1505" y="1704"/>
                  <a:pt x="1533" y="1644"/>
                </a:cubicBezTo>
                <a:cubicBezTo>
                  <a:pt x="1561" y="1584"/>
                  <a:pt x="1603" y="1477"/>
                  <a:pt x="1617" y="1408"/>
                </a:cubicBezTo>
                <a:cubicBezTo>
                  <a:pt x="1631" y="1339"/>
                  <a:pt x="1622" y="1294"/>
                  <a:pt x="1617" y="1229"/>
                </a:cubicBezTo>
                <a:cubicBezTo>
                  <a:pt x="1612" y="1164"/>
                  <a:pt x="1578" y="1090"/>
                  <a:pt x="1586" y="1016"/>
                </a:cubicBezTo>
                <a:cubicBezTo>
                  <a:pt x="1594" y="942"/>
                  <a:pt x="1631" y="852"/>
                  <a:pt x="1663" y="786"/>
                </a:cubicBezTo>
                <a:cubicBezTo>
                  <a:pt x="1695" y="720"/>
                  <a:pt x="1745" y="680"/>
                  <a:pt x="1778" y="617"/>
                </a:cubicBezTo>
                <a:cubicBezTo>
                  <a:pt x="1811" y="554"/>
                  <a:pt x="1856" y="459"/>
                  <a:pt x="1863" y="409"/>
                </a:cubicBezTo>
                <a:cubicBezTo>
                  <a:pt x="1870" y="359"/>
                  <a:pt x="1851" y="347"/>
                  <a:pt x="1822" y="317"/>
                </a:cubicBezTo>
                <a:cubicBezTo>
                  <a:pt x="1793" y="287"/>
                  <a:pt x="1743" y="258"/>
                  <a:pt x="1687" y="228"/>
                </a:cubicBezTo>
                <a:cubicBezTo>
                  <a:pt x="1631" y="197"/>
                  <a:pt x="1555" y="164"/>
                  <a:pt x="1489" y="136"/>
                </a:cubicBezTo>
                <a:cubicBezTo>
                  <a:pt x="1397" y="85"/>
                  <a:pt x="1349" y="84"/>
                  <a:pt x="1284" y="58"/>
                </a:cubicBezTo>
                <a:cubicBezTo>
                  <a:pt x="1194" y="31"/>
                  <a:pt x="1148" y="23"/>
                  <a:pt x="1064" y="5"/>
                </a:cubicBezTo>
                <a:cubicBezTo>
                  <a:pt x="1003" y="0"/>
                  <a:pt x="972" y="0"/>
                  <a:pt x="924" y="7"/>
                </a:cubicBezTo>
                <a:cubicBezTo>
                  <a:pt x="875" y="14"/>
                  <a:pt x="804" y="44"/>
                  <a:pt x="773" y="52"/>
                </a:cubicBez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948360" y="2852640"/>
            <a:ext cx="11527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t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2927520" y="3152520"/>
            <a:ext cx="1644840" cy="1859040"/>
            <a:chOff x="2927520" y="3152520"/>
            <a:chExt cx="1644840" cy="1859040"/>
          </a:xfrm>
        </p:grpSpPr>
        <p:cxnSp>
          <p:nvCxnSpPr>
            <p:cNvPr id="180" name=""/>
            <p:cNvCxnSpPr>
              <a:endCxn id="181" idx="0"/>
            </p:cNvCxnSpPr>
            <p:nvPr/>
          </p:nvCxnSpPr>
          <p:spPr>
            <a:xfrm>
              <a:off x="2927520" y="3152520"/>
              <a:ext cx="1645200" cy="185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2" name=""/>
            <p:cNvSpPr/>
            <p:nvPr/>
          </p:nvSpPr>
          <p:spPr>
            <a:xfrm>
              <a:off x="3276720" y="4070520"/>
              <a:ext cx="5745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800" spc="-1" strike="noStrike" baseline="-10000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571640" y="3211560"/>
            <a:ext cx="1800360" cy="1800000"/>
            <a:chOff x="4571640" y="3211560"/>
            <a:chExt cx="1800360" cy="1800000"/>
          </a:xfrm>
        </p:grpSpPr>
        <p:sp>
          <p:nvSpPr>
            <p:cNvPr id="184" name=""/>
            <p:cNvSpPr/>
            <p:nvPr/>
          </p:nvSpPr>
          <p:spPr>
            <a:xfrm flipH="1">
              <a:off x="4571640" y="3211560"/>
              <a:ext cx="1800360" cy="18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53080" y="3932280"/>
              <a:ext cx="574560" cy="3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1" lang="en-US" sz="1800" spc="-1" strike="noStrike" baseline="-10000">
                  <a:solidFill>
                    <a:srgbClr val="000000"/>
                  </a:solidFill>
                  <a:latin typeface="Times New Roman"/>
                </a:rPr>
                <a:t>n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700360" y="4219560"/>
            <a:ext cx="863640" cy="936720"/>
          </a:xfrm>
          <a:custGeom>
            <a:avLst/>
            <a:gdLst/>
            <a:ahLst/>
            <a:rect l="l" t="t" r="r" b="b"/>
            <a:pathLst>
              <a:path w="544" h="590">
                <a:moveTo>
                  <a:pt x="0" y="0"/>
                </a:moveTo>
                <a:cubicBezTo>
                  <a:pt x="22" y="132"/>
                  <a:pt x="45" y="265"/>
                  <a:pt x="136" y="363"/>
                </a:cubicBezTo>
                <a:cubicBezTo>
                  <a:pt x="227" y="461"/>
                  <a:pt x="385" y="525"/>
                  <a:pt x="544" y="59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35640" y="4076640"/>
            <a:ext cx="1152360" cy="1079640"/>
          </a:xfrm>
          <a:custGeom>
            <a:avLst/>
            <a:gdLst/>
            <a:ahLst/>
            <a:rect l="l" t="t" r="r" b="b"/>
            <a:pathLst>
              <a:path w="726" h="680">
                <a:moveTo>
                  <a:pt x="726" y="0"/>
                </a:moveTo>
                <a:cubicBezTo>
                  <a:pt x="696" y="193"/>
                  <a:pt x="666" y="386"/>
                  <a:pt x="545" y="499"/>
                </a:cubicBezTo>
                <a:cubicBezTo>
                  <a:pt x="424" y="612"/>
                  <a:pt x="212" y="646"/>
                  <a:pt x="0" y="6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24360" y="5942160"/>
            <a:ext cx="1152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t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74920" y="3925800"/>
            <a:ext cx="11523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t = t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6516720" y="4581360"/>
            <a:ext cx="1649520" cy="755640"/>
            <a:chOff x="6516720" y="4581360"/>
            <a:chExt cx="1649520" cy="755640"/>
          </a:xfrm>
        </p:grpSpPr>
        <p:grpSp>
          <p:nvGrpSpPr>
            <p:cNvPr id="191" name=""/>
            <p:cNvGrpSpPr/>
            <p:nvPr/>
          </p:nvGrpSpPr>
          <p:grpSpPr>
            <a:xfrm>
              <a:off x="6516720" y="4581360"/>
              <a:ext cx="1649520" cy="347760"/>
              <a:chOff x="6516720" y="4581360"/>
              <a:chExt cx="1649520" cy="347760"/>
            </a:xfrm>
          </p:grpSpPr>
          <p:sp>
            <p:nvSpPr>
              <p:cNvPr id="192" name=""/>
              <p:cNvSpPr/>
              <p:nvPr/>
            </p:nvSpPr>
            <p:spPr>
              <a:xfrm>
                <a:off x="6516720" y="4701960"/>
                <a:ext cx="244440" cy="2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4360" bIns="633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mib10"/>
                  </a:rPr>
                  <a:t>'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61160" y="4630680"/>
                <a:ext cx="162000" cy="9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9828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7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923160" y="4587840"/>
                <a:ext cx="20160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1120" bIns="2700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r7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124760" y="4581360"/>
                <a:ext cx="12996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76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r7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61160" y="4829040"/>
                <a:ext cx="162000" cy="9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9828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7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272360" y="4601880"/>
                <a:ext cx="12708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44440" bIns="8100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</a:rPr>
                  <a:t>(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99440" y="4701960"/>
                <a:ext cx="198360" cy="14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436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bx10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597800" y="4797360"/>
                <a:ext cx="162000" cy="9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9828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7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775640" y="4813200"/>
                <a:ext cx="90360" cy="9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3480" bIns="633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mi10"/>
                  </a:rPr>
                  <a:t>;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921440" y="4646520"/>
                <a:ext cx="117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99800" bIns="-3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mi10"/>
                  </a:rPr>
                  <a:t>t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039160" y="4601880"/>
                <a:ext cx="12708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44440" bIns="8100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</a:rPr>
                  <a:t>)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516720" y="4581360"/>
                <a:ext cx="1649520" cy="34776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6588000" y="5084640"/>
              <a:ext cx="1368360" cy="252360"/>
              <a:chOff x="6588000" y="5084640"/>
              <a:chExt cx="1368360" cy="252360"/>
            </a:xfrm>
          </p:grpSpPr>
          <p:sp>
            <p:nvSpPr>
              <p:cNvPr id="205" name=""/>
              <p:cNvSpPr/>
              <p:nvPr/>
            </p:nvSpPr>
            <p:spPr>
              <a:xfrm>
                <a:off x="6588000" y="5117760"/>
                <a:ext cx="92160" cy="15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5552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mmi10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750000" y="5138640"/>
                <a:ext cx="168120" cy="14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35000" bIns="93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msy10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989760" y="5084640"/>
                <a:ext cx="69840" cy="2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9000" bIns="6192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mr10"/>
                  </a:rPr>
                  <a:t>[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059600" y="5117760"/>
                <a:ext cx="91800" cy="15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5552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mmi10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151400" y="5235480"/>
                <a:ext cx="1256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5960" bIns="-3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mmi7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288200" y="5248080"/>
                <a:ext cx="69840" cy="7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5560" bIns="4752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mmi10"/>
                  </a:rPr>
                  <a:t>;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400880" y="5117760"/>
                <a:ext cx="91800" cy="15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5552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mmi10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92680" y="5235480"/>
                <a:ext cx="1256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5960" bIns="-3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mmi7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618320" y="5202000"/>
                <a:ext cx="15552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09440" bIns="2052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mr7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772400" y="5198760"/>
                <a:ext cx="101520" cy="11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1268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mr7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886520" y="5084640"/>
                <a:ext cx="69840" cy="2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89000" bIns="6192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mr10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588000" y="5084640"/>
                <a:ext cx="1368360" cy="25236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>
            <a:off x="4284720" y="5013360"/>
            <a:ext cx="6476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1800" spc="-1" strike="noStrike" baseline="-10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38520" y="50007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826920" y="4767120"/>
            <a:ext cx="2066760" cy="822600"/>
            <a:chOff x="826920" y="4767120"/>
            <a:chExt cx="2066760" cy="822600"/>
          </a:xfrm>
        </p:grpSpPr>
        <p:grpSp>
          <p:nvGrpSpPr>
            <p:cNvPr id="220" name=""/>
            <p:cNvGrpSpPr/>
            <p:nvPr/>
          </p:nvGrpSpPr>
          <p:grpSpPr>
            <a:xfrm>
              <a:off x="826920" y="4767120"/>
              <a:ext cx="2066760" cy="327240"/>
              <a:chOff x="826920" y="4767120"/>
              <a:chExt cx="2066760" cy="327240"/>
            </a:xfrm>
          </p:grpSpPr>
          <p:sp>
            <p:nvSpPr>
              <p:cNvPr id="221" name=""/>
              <p:cNvSpPr/>
              <p:nvPr/>
            </p:nvSpPr>
            <p:spPr>
              <a:xfrm>
                <a:off x="826920" y="4867200"/>
                <a:ext cx="244440" cy="2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4360" bIns="633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mib10"/>
                  </a:rPr>
                  <a:t>'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071360" y="4962600"/>
                <a:ext cx="162000" cy="9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9828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7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233360" y="4919760"/>
                <a:ext cx="20160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1120" bIns="2700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r7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434960" y="4913280"/>
                <a:ext cx="12996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76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r7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582560" y="4767120"/>
                <a:ext cx="12708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44440" bIns="8100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</a:rPr>
                  <a:t>(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09640" y="4788000"/>
                <a:ext cx="284040" cy="22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23560" bIns="-3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bx10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93680" y="4978440"/>
                <a:ext cx="90360" cy="9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33480" bIns="633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mi10"/>
                  </a:rPr>
                  <a:t>;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39840" y="4811760"/>
                <a:ext cx="1173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99800" bIns="-3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mi10"/>
                  </a:rPr>
                  <a:t>t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57200" y="4962600"/>
                <a:ext cx="162000" cy="9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9828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7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419200" y="4919760"/>
                <a:ext cx="20160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1120" bIns="2700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r7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620800" y="4913280"/>
                <a:ext cx="12996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76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r7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766960" y="4767120"/>
                <a:ext cx="126720" cy="32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244440" bIns="8100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</a:rPr>
                  <a:t>)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826920" y="4767120"/>
                <a:ext cx="2066760" cy="32724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901440" y="5241960"/>
              <a:ext cx="1725480" cy="347760"/>
              <a:chOff x="901440" y="5241960"/>
              <a:chExt cx="1725480" cy="347760"/>
            </a:xfrm>
          </p:grpSpPr>
          <p:sp>
            <p:nvSpPr>
              <p:cNvPr id="235" name=""/>
              <p:cNvSpPr/>
              <p:nvPr/>
            </p:nvSpPr>
            <p:spPr>
              <a:xfrm>
                <a:off x="901440" y="5388120"/>
                <a:ext cx="25380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75960" bIns="-8604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r10"/>
                  </a:rPr>
                  <a:t>=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157040" y="5362560"/>
                <a:ext cx="244440" cy="2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4360" bIns="633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mib10"/>
                  </a:rPr>
                  <a:t>'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01480" y="5291280"/>
                <a:ext cx="162000" cy="9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9828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7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563480" y="5248440"/>
                <a:ext cx="20160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1120" bIns="2700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r7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763280" y="5241960"/>
                <a:ext cx="13032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760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r7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401480" y="5489640"/>
                <a:ext cx="162000" cy="9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9828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7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983960" y="5362560"/>
                <a:ext cx="163440" cy="1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27080" bIns="-3492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sy10"/>
                  </a:rPr>
                  <a:t>±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20480" y="5362560"/>
                <a:ext cx="244440" cy="2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144360" bIns="6336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600" spc="-1" strike="noStrike">
                    <a:solidFill>
                      <a:srgbClr val="000000"/>
                    </a:solidFill>
                    <a:latin typeface="cmmib10"/>
                  </a:rPr>
                  <a:t>'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464920" y="5489640"/>
                <a:ext cx="162000" cy="9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98280" bIns="0" anchor="b">
                <a:noAutofit/>
              </a:bodyPr>
              <a:p>
                <a:pPr>
                  <a:lnSpc>
                    <a:spcPct val="3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mmi7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901440" y="5241960"/>
                <a:ext cx="1725480" cy="347760"/>
              </a:xfrm>
              <a:prstGeom prst="rect">
                <a:avLst/>
              </a:prstGeom>
              <a:noFill/>
              <a:ln w="9360">
                <a:solidFill>
                  <a:srgbClr val="000000">
                    <a:alpha val="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"/>
          <p:cNvGrpSpPr/>
          <p:nvPr/>
        </p:nvGrpSpPr>
        <p:grpSpPr>
          <a:xfrm>
            <a:off x="5940360" y="5734080"/>
            <a:ext cx="2094120" cy="287280"/>
            <a:chOff x="5940360" y="5734080"/>
            <a:chExt cx="2094120" cy="287280"/>
          </a:xfrm>
        </p:grpSpPr>
        <p:sp>
          <p:nvSpPr>
            <p:cNvPr id="246" name=""/>
            <p:cNvSpPr/>
            <p:nvPr/>
          </p:nvSpPr>
          <p:spPr>
            <a:xfrm>
              <a:off x="5940360" y="5736960"/>
              <a:ext cx="225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65720" y="5903640"/>
              <a:ext cx="15408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9800" y="5862600"/>
              <a:ext cx="1904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25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r7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10240" y="5856120"/>
              <a:ext cx="1238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735600" y="5837040"/>
              <a:ext cx="24156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1640" bIns="-824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62840" y="5735520"/>
              <a:ext cx="1094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4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72280" y="5903640"/>
              <a:ext cx="15408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26360" y="5862600"/>
              <a:ext cx="19044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3200" bIns="255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r7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516800" y="5856120"/>
              <a:ext cx="1238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96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r7"/>
                </a:rPr>
                <a:t>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656480" y="5736960"/>
              <a:ext cx="2253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12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80400" y="5903640"/>
              <a:ext cx="15408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21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mmi7"/>
                </a:rPr>
                <a:t>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40360" y="5734080"/>
              <a:ext cx="2092320" cy="28728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53964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litiplicative Decompo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stic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Elastoplasticity at Finite Strain </a:t>
            </a:r>
            <a:br>
              <a:rPr sz="3600"/>
            </a:br>
            <a:r>
              <a:rPr b="1" lang="en-US" sz="3600" spc="-1" strike="noStrike">
                <a:solidFill>
                  <a:srgbClr val="999900"/>
                </a:solidFill>
                <a:latin typeface="Garamond"/>
              </a:rPr>
              <a:t>(Simo, 1991)</a:t>
            </a:r>
            <a:endParaRPr b="1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835280" y="2349360"/>
            <a:ext cx="1817640" cy="309600"/>
            <a:chOff x="1835280" y="2349360"/>
            <a:chExt cx="1817640" cy="309600"/>
          </a:xfrm>
        </p:grpSpPr>
        <p:sp>
          <p:nvSpPr>
            <p:cNvPr id="261" name=""/>
            <p:cNvSpPr/>
            <p:nvPr/>
          </p:nvSpPr>
          <p:spPr>
            <a:xfrm>
              <a:off x="1835280" y="2373120"/>
              <a:ext cx="303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5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54320" y="2506680"/>
              <a:ext cx="325440" cy="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480" bIns="-111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95680" y="2373120"/>
              <a:ext cx="303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5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97360" y="2350800"/>
              <a:ext cx="15876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78080" y="2373120"/>
              <a:ext cx="3034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58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479760" y="2350800"/>
              <a:ext cx="1731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554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p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35280" y="2349360"/>
              <a:ext cx="1817640" cy="3096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835280" y="2911320"/>
            <a:ext cx="2439720" cy="466560"/>
            <a:chOff x="1835280" y="2911320"/>
            <a:chExt cx="2439720" cy="466560"/>
          </a:xfrm>
        </p:grpSpPr>
        <p:sp>
          <p:nvSpPr>
            <p:cNvPr id="269" name=""/>
            <p:cNvSpPr/>
            <p:nvPr/>
          </p:nvSpPr>
          <p:spPr>
            <a:xfrm>
              <a:off x="1835280" y="2992320"/>
              <a:ext cx="2613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404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bx10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96640" y="2971440"/>
              <a:ext cx="15552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385720" y="3127320"/>
              <a:ext cx="318600" cy="9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5040" bIns="-108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19160" y="2995560"/>
              <a:ext cx="29628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0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14360" y="2974680"/>
              <a:ext cx="1551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90400" y="2970000"/>
              <a:ext cx="15840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06360" bIns="101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449160" y="2995560"/>
              <a:ext cx="296640" cy="28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080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bx10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746160" y="2974680"/>
              <a:ext cx="155160" cy="1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24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922560" y="2970000"/>
              <a:ext cx="158400" cy="40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06360" bIns="1015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81320" y="2911320"/>
              <a:ext cx="1933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951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35280" y="2911320"/>
              <a:ext cx="2439720" cy="4665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432160" y="6035760"/>
            <a:ext cx="5164200" cy="417600"/>
            <a:chOff x="2432160" y="6035760"/>
            <a:chExt cx="5164200" cy="417600"/>
          </a:xfrm>
        </p:grpSpPr>
        <p:sp>
          <p:nvSpPr>
            <p:cNvPr id="281" name=""/>
            <p:cNvSpPr/>
            <p:nvPr/>
          </p:nvSpPr>
          <p:spPr>
            <a:xfrm>
              <a:off x="2432160" y="6059520"/>
              <a:ext cx="204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f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81280" y="6035760"/>
              <a:ext cx="1620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2480" bIns="102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43280" y="6162840"/>
              <a:ext cx="2872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b10"/>
                </a:rPr>
                <a:t>¾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146400" y="6305760"/>
              <a:ext cx="1159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284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32160" y="6059520"/>
              <a:ext cx="2127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b10"/>
                </a:rPr>
                <a:t>»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557520" y="6035760"/>
              <a:ext cx="1620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2480" bIns="1029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35440" y="6083280"/>
              <a:ext cx="3254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4960" bIns="554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sy10"/>
                </a:rPr>
                <a:t>·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278240" y="6080400"/>
              <a:ext cx="2095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8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05360" y="6059520"/>
              <a:ext cx="244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¸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65720" y="6083280"/>
              <a:ext cx="32544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4960" bIns="554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sy10"/>
                </a:rPr>
                <a:t>¸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7080" y="6080400"/>
              <a:ext cx="2095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8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34200" y="6059520"/>
              <a:ext cx="2048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f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583320" y="6059520"/>
              <a:ext cx="244440" cy="2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90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¸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43680" y="6196320"/>
              <a:ext cx="325440" cy="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480" bIns="-111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86480" y="6080400"/>
              <a:ext cx="2098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8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0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32160" y="6035760"/>
              <a:ext cx="5164200" cy="41760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763640" y="4149720"/>
            <a:ext cx="358920" cy="2374920"/>
          </a:xfrm>
          <a:custGeom>
            <a:avLst/>
            <a:gdLst>
              <a:gd name="textAreaLeft" fmla="*/ 229320 w 358920"/>
              <a:gd name="textAreaRight" fmla="*/ 359280 w 358920"/>
              <a:gd name="textAreaTop" fmla="*/ 61920 h 2374920"/>
              <a:gd name="textAreaBottom" fmla="*/ 2313000 h 237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340000" y="4941720"/>
            <a:ext cx="2886120" cy="720720"/>
            <a:chOff x="2340000" y="4941720"/>
            <a:chExt cx="2886120" cy="720720"/>
          </a:xfrm>
        </p:grpSpPr>
        <p:sp>
          <p:nvSpPr>
            <p:cNvPr id="299" name=""/>
            <p:cNvSpPr/>
            <p:nvPr/>
          </p:nvSpPr>
          <p:spPr>
            <a:xfrm>
              <a:off x="2340000" y="5219280"/>
              <a:ext cx="2732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03040" bIns="284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sy10"/>
                </a:rPr>
                <a:t>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654280" y="4960800"/>
              <a:ext cx="1746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r10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54280" y="5335200"/>
              <a:ext cx="174600" cy="0"/>
            </a:xfrm>
            <a:prstGeom prst="line">
              <a:avLst/>
            </a:prstGeom>
            <a:ln w="14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4280" y="5437080"/>
              <a:ext cx="1746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253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r10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71720" y="5184360"/>
              <a:ext cx="24156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9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sy10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13280" y="5370120"/>
              <a:ext cx="13968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mmi7"/>
                </a:rPr>
                <a:t>v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9960" y="5179680"/>
              <a:ext cx="2235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3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bx10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03520" y="5160600"/>
              <a:ext cx="13356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mmi7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51200" y="5295600"/>
              <a:ext cx="27324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1000" bIns="-921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21280" y="5179680"/>
              <a:ext cx="2048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3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89480" y="4943160"/>
              <a:ext cx="1857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3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@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95760" y="4943160"/>
              <a:ext cx="1717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3000" bIns="666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67160" y="5335200"/>
              <a:ext cx="459000" cy="0"/>
            </a:xfrm>
            <a:prstGeom prst="line">
              <a:avLst/>
            </a:prstGeom>
            <a:ln w="140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67160" y="5419440"/>
              <a:ext cx="18576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3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10"/>
                </a:rPr>
                <a:t>@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73800" y="5506920"/>
              <a:ext cx="23940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5552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mib10"/>
                </a:rPr>
                <a:t>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869000" y="5179680"/>
              <a:ext cx="2239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430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mbx10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92920" y="5173560"/>
              <a:ext cx="133200" cy="1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04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mmi7"/>
                </a:rPr>
                <a:t>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340000" y="4941720"/>
              <a:ext cx="2884680" cy="72072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360520" y="3855960"/>
            <a:ext cx="3830760" cy="884160"/>
            <a:chOff x="2360520" y="3855960"/>
            <a:chExt cx="3830760" cy="884160"/>
          </a:xfrm>
        </p:grpSpPr>
        <p:sp>
          <p:nvSpPr>
            <p:cNvPr id="318" name=""/>
            <p:cNvSpPr/>
            <p:nvPr/>
          </p:nvSpPr>
          <p:spPr>
            <a:xfrm>
              <a:off x="2360520" y="4267080"/>
              <a:ext cx="28728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8576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b10"/>
                </a:rPr>
                <a:t>¾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779560" y="4300560"/>
              <a:ext cx="32544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96840" bIns="-1112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=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220920" y="4184640"/>
              <a:ext cx="2095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6820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2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0440" y="4273560"/>
              <a:ext cx="216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7928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%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5400" y="3881520"/>
              <a:ext cx="22248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8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@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41640" y="3881520"/>
              <a:ext cx="2728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8720" bIns="80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Ã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28920" y="3857400"/>
              <a:ext cx="16200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2840" bIns="103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(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90920" y="3881520"/>
              <a:ext cx="2667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8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bx10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59120" y="3857400"/>
              <a:ext cx="15876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38400" y="4127400"/>
              <a:ext cx="11592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2840" bIns="8100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;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24160" y="3881520"/>
              <a:ext cx="212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8720" bIns="80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b10"/>
                </a:rPr>
                <a:t>»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249880" y="3857400"/>
              <a:ext cx="16164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312840" bIns="10332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r10"/>
                </a:rPr>
                <a:t>)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95400" y="4348080"/>
              <a:ext cx="1716120" cy="0"/>
            </a:xfrm>
            <a:prstGeom prst="line">
              <a:avLst/>
            </a:prstGeom>
            <a:ln w="16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8400" y="4451400"/>
              <a:ext cx="2221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8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mi10"/>
                </a:rPr>
                <a:t>@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52840" y="4451400"/>
              <a:ext cx="2667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8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bx10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21040" y="4427640"/>
              <a:ext cx="158760" cy="1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556240" y="4267080"/>
              <a:ext cx="11592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63440" bIns="-4464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sy10"/>
                </a:rPr>
                <a:t>¢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3960" y="4164120"/>
              <a:ext cx="2667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88720" bIns="-36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cmbx10"/>
                </a:rPr>
                <a:t>b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032520" y="4140000"/>
              <a:ext cx="15876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25280" bIns="0" anchor="b">
              <a:noAutofit/>
            </a:bodyPr>
            <a:p>
              <a:pPr>
                <a:lnSpc>
                  <a:spcPct val="3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cmmi7"/>
                </a:rPr>
                <a:t>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360520" y="3855960"/>
              <a:ext cx="3830760" cy="8841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4T18:40:57Z</dcterms:created>
  <dc:creator>Wookuen Shin</dc:creator>
  <dc:description/>
  <dc:language>en-US</dc:language>
  <cp:lastModifiedBy>Wookuen Shin</cp:lastModifiedBy>
  <dcterms:modified xsi:type="dcterms:W3CDTF">2009-04-08T15:52:33Z</dcterms:modified>
  <cp:revision>51</cp:revision>
  <dc:subject/>
  <dc:title>Nonlinear Numerical Analysis of Two-Phase Porous Media with Material Point Method</dc:title>
</cp:coreProperties>
</file>