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DCB-DF92-4781-8026-9BDD5E5B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1E0-6E50-4496-9309-AB5880D9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EE8-15A9-431D-84AF-D46991C2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DEB-7D0F-4836-B4AE-2DCD29410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977-A2C8-4FEF-9689-E1C1B743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186-D698-4D62-9C5B-C291B0BB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6C48-91B3-4E14-9C7E-0B461E1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E25-1590-486C-B07A-D62E0E01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EDFE-47AF-4998-9E63-9199EF8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070-E4E9-47B3-81DA-34A33D52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E6A-5FC8-4C4A-B9E4-4D7B301F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A8BF-D75A-4180-879C-A9CDFFC3F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80C-E19A-4131-83BC-4EDAA4FD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908000" y="1341360"/>
            <a:ext cx="287280" cy="153720"/>
            <a:chOff x="1908000" y="1341360"/>
            <a:chExt cx="287280" cy="153720"/>
          </a:xfrm>
        </p:grpSpPr>
        <p:sp>
          <p:nvSpPr>
            <p:cNvPr id="42" name=""/>
            <p:cNvSpPr/>
            <p:nvPr/>
          </p:nvSpPr>
          <p:spPr>
            <a:xfrm>
              <a:off x="1908000" y="1341360"/>
              <a:ext cx="287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2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bx10"/>
                </a:rPr>
                <a:t>w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08000" y="1341360"/>
              <a:ext cx="287280" cy="153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3564000" y="1197000"/>
            <a:ext cx="358560" cy="206280"/>
            <a:chOff x="3564000" y="1197000"/>
            <a:chExt cx="358560" cy="206280"/>
          </a:xfrm>
        </p:grpSpPr>
        <p:sp>
          <p:nvSpPr>
            <p:cNvPr id="45" name=""/>
            <p:cNvSpPr/>
            <p:nvPr/>
          </p:nvSpPr>
          <p:spPr>
            <a:xfrm>
              <a:off x="3564000" y="1197000"/>
              <a:ext cx="3585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64000" y="1197000"/>
              <a:ext cx="358560" cy="206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156360" y="1413000"/>
            <a:ext cx="218880" cy="206280"/>
            <a:chOff x="6156360" y="1413000"/>
            <a:chExt cx="218880" cy="206280"/>
          </a:xfrm>
        </p:grpSpPr>
        <p:sp>
          <p:nvSpPr>
            <p:cNvPr id="48" name=""/>
            <p:cNvSpPr/>
            <p:nvPr/>
          </p:nvSpPr>
          <p:spPr>
            <a:xfrm>
              <a:off x="6156360" y="1413000"/>
              <a:ext cx="2188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56360" y="1413000"/>
              <a:ext cx="218880" cy="206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627280" y="2205000"/>
            <a:ext cx="181080" cy="162000"/>
            <a:chOff x="2627280" y="2205000"/>
            <a:chExt cx="181080" cy="162000"/>
          </a:xfrm>
        </p:grpSpPr>
        <p:sp>
          <p:nvSpPr>
            <p:cNvPr id="51" name=""/>
            <p:cNvSpPr/>
            <p:nvPr/>
          </p:nvSpPr>
          <p:spPr>
            <a:xfrm>
              <a:off x="2627280" y="2206800"/>
              <a:ext cx="181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1240" bIns="4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b10"/>
                </a:rPr>
                <a:t>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627280" y="2205000"/>
              <a:ext cx="181080" cy="1620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4360" y="2637000"/>
            <a:ext cx="2374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... \mbox{\boldmath$\theta$} ...$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372360" y="1628640"/>
            <a:ext cx="1581120" cy="372960"/>
            <a:chOff x="6372360" y="1628640"/>
            <a:chExt cx="1581120" cy="372960"/>
          </a:xfrm>
        </p:grpSpPr>
        <p:sp>
          <p:nvSpPr>
            <p:cNvPr id="55" name=""/>
            <p:cNvSpPr/>
            <p:nvPr/>
          </p:nvSpPr>
          <p:spPr>
            <a:xfrm>
              <a:off x="6372360" y="1719000"/>
              <a:ext cx="260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45320" y="1852200"/>
              <a:ext cx="31608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3960" bIns="-107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74080" y="1722240"/>
              <a:ext cx="2934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467480" y="1722240"/>
              <a:ext cx="2937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7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61240" y="1628640"/>
              <a:ext cx="19224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3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72360" y="1628640"/>
              <a:ext cx="1581120" cy="372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020000" y="2492280"/>
            <a:ext cx="10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$\textbf{F} = \frac{\partial \mbox{\boldmath$\chi$} }{\partial \textbf{X}}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43280" y="765000"/>
            <a:ext cx="261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$ \Bsi=\vrh \frac{\partial \psi(\Bvep,\Bxi)}{\partial\Bvep} 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5373720"/>
            <a:ext cx="27972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$ \mbox{\boldmath$\sigma$} =\varrho \frac{\partial \psi (\mbox{\boldmath$\varepsilon$}^e, \mbox{\boldmath$\xi$})} {\partial \mbox{\boldmath$\varepsilon$}^e} $$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060640"/>
            <a:ext cx="2797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$ \mbox{\boldmath$\sigma$} =\varrho \frac{\partial \psi (\mbox{\boldmath$\varepsilon$}^e, \mbox{\boldmath$\xi$})} {\partial \mbox{\boldmath$\varepsilon$}^e} $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00720" y="3141720"/>
          <a:ext cx="286704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41720"/>
                    <a:ext cx="286704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140360" y="1413000"/>
            <a:ext cx="4200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$ \mathcal{L}_v \mbox{\boldmath$\sigma$} =\varrho\,\bar{\textbf{c}} (\mbox{\boldmath$\varepsilon$}^e, \mbox{\boldmath$\xi$}) :\mathcal{L}_v \mbox{\boldmath$\varepsilon$}^e$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476360" y="5300640"/>
            <a:ext cx="3200400" cy="860400"/>
            <a:chOff x="1476360" y="5300640"/>
            <a:chExt cx="3200400" cy="860400"/>
          </a:xfrm>
        </p:grpSpPr>
        <p:sp>
          <p:nvSpPr>
            <p:cNvPr id="69" name=""/>
            <p:cNvSpPr/>
            <p:nvPr/>
          </p:nvSpPr>
          <p:spPr>
            <a:xfrm>
              <a:off x="1476360" y="5632560"/>
              <a:ext cx="3254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2640" bIns="331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2560" y="532296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852560" y="5770440"/>
              <a:ext cx="208080" cy="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52560" y="589284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11400" y="5589720"/>
              <a:ext cx="2887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00120" y="5811840"/>
              <a:ext cx="16704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v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98840" y="5586480"/>
              <a:ext cx="266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5600" y="556272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62240" y="5722920"/>
              <a:ext cx="3254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11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79920" y="5302080"/>
              <a:ext cx="22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25800" y="5302080"/>
              <a:ext cx="204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2920" y="5770440"/>
              <a:ext cx="547560" cy="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52920" y="5872320"/>
              <a:ext cx="222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98800" y="5975280"/>
              <a:ext cx="287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251240" y="5586480"/>
              <a:ext cx="266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18000" y="556272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76360" y="5300640"/>
              <a:ext cx="3200400" cy="860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39640" y="2060640"/>
            <a:ext cx="2797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$$ \mbox{\boldmath$\sigma$} =\varrho \frac{\partial \psi ( \mbox{\boldmath$\varepsilon$}^e, \mbox{\boldmath$\xi$})} {\partial \mbox{\boldmath$\varepsilon$}^e} $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03640" y="1341360"/>
            <a:ext cx="5164200" cy="417600"/>
            <a:chOff x="3203640" y="1341360"/>
            <a:chExt cx="5164200" cy="417600"/>
          </a:xfrm>
        </p:grpSpPr>
        <p:sp>
          <p:nvSpPr>
            <p:cNvPr id="88" name=""/>
            <p:cNvSpPr/>
            <p:nvPr/>
          </p:nvSpPr>
          <p:spPr>
            <a:xfrm>
              <a:off x="3203640" y="1365120"/>
              <a:ext cx="204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52760" y="134136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14760" y="1468440"/>
              <a:ext cx="287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917880" y="1611360"/>
              <a:ext cx="1159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103640" y="1365120"/>
              <a:ext cx="212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»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329000" y="134136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606920" y="1388880"/>
              <a:ext cx="325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·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49720" y="138600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676840" y="1365120"/>
              <a:ext cx="244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37200" y="1388880"/>
              <a:ext cx="325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78560" y="138600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05680" y="1365120"/>
              <a:ext cx="204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54800" y="1365120"/>
              <a:ext cx="244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15160" y="1501920"/>
              <a:ext cx="3254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111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57960" y="1386000"/>
              <a:ext cx="209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1341360"/>
              <a:ext cx="5164200" cy="417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788000" y="4581360"/>
            <a:ext cx="2492280" cy="477720"/>
            <a:chOff x="4788000" y="4581360"/>
            <a:chExt cx="2492280" cy="477720"/>
          </a:xfrm>
        </p:grpSpPr>
        <p:sp>
          <p:nvSpPr>
            <p:cNvPr id="105" name=""/>
            <p:cNvSpPr/>
            <p:nvPr/>
          </p:nvSpPr>
          <p:spPr>
            <a:xfrm>
              <a:off x="4788000" y="4665240"/>
              <a:ext cx="26640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56200" y="464148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51400" y="4802040"/>
              <a:ext cx="3254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111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92760" y="466848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464616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275520" y="4641480"/>
              <a:ext cx="161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437160" y="4668480"/>
              <a:ext cx="303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40640" y="464616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19920" y="464148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3360" y="4581360"/>
              <a:ext cx="1969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88000" y="4581360"/>
              <a:ext cx="2492280" cy="477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59280" y="3500280"/>
            <a:ext cx="1817640" cy="309600"/>
            <a:chOff x="4859280" y="3500280"/>
            <a:chExt cx="1817640" cy="309600"/>
          </a:xfrm>
        </p:grpSpPr>
        <p:sp>
          <p:nvSpPr>
            <p:cNvPr id="117" name=""/>
            <p:cNvSpPr/>
            <p:nvPr/>
          </p:nvSpPr>
          <p:spPr>
            <a:xfrm>
              <a:off x="4859280" y="352404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8320" y="3657600"/>
              <a:ext cx="3254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111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719680" y="352404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21360" y="350172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202080" y="3524040"/>
              <a:ext cx="303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03760" y="3501720"/>
              <a:ext cx="173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59280" y="3500280"/>
              <a:ext cx="1817640" cy="309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67280" y="5877000"/>
            <a:ext cx="2093400" cy="287280"/>
            <a:chOff x="4067280" y="5877000"/>
            <a:chExt cx="2093400" cy="287280"/>
          </a:xfrm>
        </p:grpSpPr>
        <p:sp>
          <p:nvSpPr>
            <p:cNvPr id="125" name=""/>
            <p:cNvSpPr/>
            <p:nvPr/>
          </p:nvSpPr>
          <p:spPr>
            <a:xfrm>
              <a:off x="4067280" y="5879880"/>
              <a:ext cx="225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92280" y="6046560"/>
              <a:ext cx="153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46360" y="6005520"/>
              <a:ext cx="190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25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36800" y="5999040"/>
              <a:ext cx="123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62160" y="5979960"/>
              <a:ext cx="24120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640" bIns="-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9400" y="5878440"/>
              <a:ext cx="109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8840" y="6046560"/>
              <a:ext cx="153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52920" y="6005520"/>
              <a:ext cx="19008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25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43360" y="5999040"/>
              <a:ext cx="1234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3040" y="5879880"/>
              <a:ext cx="225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06960" y="6046560"/>
              <a:ext cx="1537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67280" y="5877000"/>
              <a:ext cx="2091960" cy="287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2556000" y="2852640"/>
            <a:ext cx="3744720" cy="514440"/>
            <a:chOff x="2556000" y="2852640"/>
            <a:chExt cx="3744720" cy="514440"/>
          </a:xfrm>
        </p:grpSpPr>
        <p:sp>
          <p:nvSpPr>
            <p:cNvPr id="138" name=""/>
            <p:cNvSpPr/>
            <p:nvPr/>
          </p:nvSpPr>
          <p:spPr>
            <a:xfrm>
              <a:off x="2556000" y="2997000"/>
              <a:ext cx="13968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6920" bIns="54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7360" y="2981160"/>
              <a:ext cx="111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38600" y="3068640"/>
              <a:ext cx="195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2981160"/>
              <a:ext cx="111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33880" y="3090600"/>
              <a:ext cx="222120" cy="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6960" bIns="-727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5200" y="2981160"/>
              <a:ext cx="795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14760" y="2981160"/>
              <a:ext cx="79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93960" y="3068640"/>
              <a:ext cx="1303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24280" y="2981160"/>
              <a:ext cx="7956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03840" y="2981160"/>
              <a:ext cx="7920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46400" y="3028680"/>
              <a:ext cx="22248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32240" y="3068640"/>
              <a:ext cx="17460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54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b10"/>
                </a:rPr>
                <a:t>½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54720" y="3019320"/>
              <a:ext cx="11088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4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65600" y="3071880"/>
              <a:ext cx="111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6840" y="2981160"/>
              <a:ext cx="111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888080" y="3068640"/>
              <a:ext cx="19512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94360" y="2981160"/>
              <a:ext cx="1112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69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68960" y="3028680"/>
              <a:ext cx="22212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22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54800" y="2852640"/>
              <a:ext cx="2854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1160" bIns="501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ex10"/>
                </a:rPr>
                <a:t>q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40280" y="2857320"/>
              <a:ext cx="182880" cy="0"/>
            </a:xfrm>
            <a:prstGeom prst="line">
              <a:avLst/>
            </a:prstGeom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73760" y="2952720"/>
              <a:ext cx="1144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73760" y="3122640"/>
              <a:ext cx="114480" cy="0"/>
            </a:xfrm>
            <a:prstGeom prst="line">
              <a:avLst/>
            </a:prstGeom>
            <a:ln w="1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3163680"/>
              <a:ext cx="114480" cy="12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8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r7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3160" y="3071880"/>
              <a:ext cx="163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84800" y="3151080"/>
              <a:ext cx="1159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38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mmi7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56000" y="2852640"/>
              <a:ext cx="3744720" cy="5144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2:26:23Z</dcterms:created>
  <dc:creator>Wookuen Shin</dc:creator>
  <dc:description/>
  <dc:language>en-US</dc:language>
  <cp:lastModifiedBy>Wookuen Shin</cp:lastModifiedBy>
  <dcterms:modified xsi:type="dcterms:W3CDTF">2009-03-28T02:22:33Z</dcterms:modified>
  <cp:revision>2</cp:revision>
  <dc:subject/>
  <dc:title>슬라이드 1</dc:title>
</cp:coreProperties>
</file>